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1.png" ContentType="image/pn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1325-5119-4A54-A398-48376064D821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ring pretest result from pilot study and current implementation, it is found that the entry quality of students are about the 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7% - Band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% - Band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% - Band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2 cycles of implementation, it can be seen that there are significant increase for Band 3 (21.6%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30%) and significant decrease for Band 1 (23.2%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7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6343-05F4-47F5-A538-3ABF95513D7E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Student is required to have a personal journal and at random, teacher would ask student to present to the clas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gestion on Cont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 did this week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have I been this week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 learned this week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 feel (Happy/Sad/Enthusiastic) this week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I wanted to talk to this week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is the best person to me this week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FA14-7EC3-483E-9130-FE6F4AB28D85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im and Post Test data for ILP Ipoh were not included (not received to date of analysis was d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lysis based on 20 IL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9326-8A39-4F7D-8C5E-7B64BB5CA4BC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w Pedagogical Approach has proven effective to improve students’ perform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47% of students obtained Band 1 during pre-test, only 17% left at the end of semester.  That’s 64% increase involving 688 stud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ILPs achieved Target of 0 band 1 as early as Interim Test (APNT and Selandar).  Congratulation to ILP APNT coz successfully achieved target early even though this is the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ime implementing it. In addition, the teacher is only a PSH Teac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ILPs in total reached Target of 0 band 1 by the end of semester (NT, KL, Selandar, Pedas and KT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FAC1-C020-49D7-9750-E0D0ABC83137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fore, by excluding ILP KS, the overall performance is as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w Strategy has moved 72% (or 749) students from band 1 to either band 2 or band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84AF-E0DF-4096-AE12-6D96113D3A9B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otal, 386 students had benefited the new pedog approach.. Moving from band 1 or band 2 to band 3.  That’s 58% increase from 16% initially to 38% at the end of semes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 3 ILPs are Selandar, PG and Pedas.  Congratulation to all…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17F7-3F64-4E86-B5C1-718A5C9B72EB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 10 ILPs based on Post Test result are as sh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ILP Selandar, this is the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round as it started JEPT since 2/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ILP Pasir Gudang, this is the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ime implementing JEPT and can be considered as Excellent achievement based on total number of students invol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3A23-28FC-4F00-9419-BFF910EAE160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DA27-C4B2-4FFE-A1A8-1FB5EF73B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8F20-DEF3-44C9-B6DB-F95E0C4E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F910-6B62-4E6E-A689-5FD21E694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FAAA-FE82-4E35-BD72-79DF8D3F7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387B-91B3-40EF-9278-A36925E65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78BA-5200-4623-927A-57372269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D2A3-CC44-4B26-B008-72F12BE0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E5E1-B783-4531-B02C-904FC3A8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9AA26-784F-437D-8B67-7ACF29A0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3E9C-46C3-476A-9F85-2ACFD2B0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9290-8A8C-460A-9BCD-FAE4F12A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8375-238D-4188-B4B2-C40BA116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C3A6-02C7-4651-98F3-21A5FBCB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E29F-6624-4182-B441-E323B7B4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D621-F64A-4935-B53B-BB2B1220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D035-0ADF-40AF-84B5-C3AF75F01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2423-E58C-446F-AC85-A4A514322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54494-B26A-420A-A310-A3D70B009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77379-D445-4136-A797-88928FF9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5608D-D540-4FD6-9FD1-E12528A2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85B8E-F78D-44EE-ACF3-AEA0DFF4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E4D19-5959-4FBD-A6A7-8DC20891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4136-96A7-45B7-8E24-D76A23BB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BE209-9A42-4F84-BFB8-92A572A8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FFA17-21FF-44D0-8A6B-919DE92A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09E0B-8B54-4761-AE8E-5AF901AB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2D581-D822-4908-9F8A-39A647A4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40C14-FD86-4E87-92A6-0F892AD5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8CE1A-1EF0-4957-A046-A079CA658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F1C23-762F-4479-BAA8-EF597A70F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17F79-CA6D-490F-A698-DE79CC466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DE60E-1568-4140-A5A5-A32EB6FA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CD39C-45DD-436B-B1B8-0893F46E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EA44-ED9E-4B14-ABAF-B0C60E5F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4BC4C-D66A-4AC3-BC67-92E58A44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D2178-1F53-4288-B380-B9186F4B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587D0-884B-453A-B590-E51E1488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40A3B-F2FF-4AA8-8BD1-7A8366DA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0AA0C-749D-4ED2-B433-187105A6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DB301-3A7C-4A12-8362-83DC1D73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0EF95-E2A4-476D-895F-AE2F95A3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1A3C0-6A57-43AF-AB02-145285816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9ABB7-EFB7-44B5-B595-B7F46F489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18F32-98FA-4D22-87E9-79EA6EB49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AEF2-DA46-4AEF-AD54-13B5C491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F8B89-A79D-484A-BA28-3A3099E8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59652-1805-4D6A-A0D4-B2D4A7B0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8B00F-67D3-4D63-BAF0-5D0B0F32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75BEA-86FE-4C98-BC3C-E2343D93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9851C-32A4-4EA9-AFD7-ECD96945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661FE-0AD8-4F76-816E-6E82BA3A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F38FB-0F63-4DEA-86A7-520719A7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F669F-DB64-451F-8096-29E3E930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EB192-BE14-4FFA-A8B9-540D6374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CE9CD-A666-4F34-B58E-511100C2A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B1EF-4B86-4DDA-B12C-7189DBF1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EE18D-5458-4029-97D3-4C941550D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EC1C-CB34-4671-B650-886B9570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06F5-5F41-45DB-860C-7310A723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E886-8971-4317-853D-EE15D6CC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D87E-D76A-4D00-9215-B55E3A8FB3E6}" type="slidenum">
              <a:rPr b="0" lang="en-MY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3"/>
          <p:cNvGrpSpPr/>
          <p:nvPr/>
        </p:nvGrpSpPr>
        <p:grpSpPr>
          <a:xfrm>
            <a:off x="546120" y="-4680"/>
            <a:ext cx="5014800" cy="6862680"/>
            <a:chOff x="546120" y="-4680"/>
            <a:chExt cx="5014800" cy="6862680"/>
          </a:xfrm>
        </p:grpSpPr>
        <p:sp>
          <p:nvSpPr>
            <p:cNvPr id="49" name="Freeform 6"/>
            <p:cNvSpPr/>
            <p:nvPr/>
          </p:nvSpPr>
          <p:spPr>
            <a:xfrm>
              <a:off x="984240" y="-4680"/>
              <a:ext cx="1063440" cy="2782800"/>
            </a:xfrm>
            <a:custGeom>
              <a:avLst/>
              <a:gdLst/>
              <a:ahLst/>
              <a:rect l="l" t="t" r="r" b="b"/>
              <a:pathLst>
                <a:path w="670" h="1753">
                  <a:moveTo>
                    <a:pt x="0" y="1696"/>
                  </a:moveTo>
                  <a:lnTo>
                    <a:pt x="225" y="1753"/>
                  </a:lnTo>
                  <a:lnTo>
                    <a:pt x="670" y="0"/>
                  </a:lnTo>
                  <a:lnTo>
                    <a:pt x="430" y="0"/>
                  </a:lnTo>
                  <a:lnTo>
                    <a:pt x="0" y="1696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546120" y="-4680"/>
              <a:ext cx="1035000" cy="2673360"/>
            </a:xfrm>
            <a:custGeom>
              <a:avLst/>
              <a:gdLst/>
              <a:ahLst/>
              <a:rect l="l" t="t" r="r" b="b"/>
              <a:pathLst>
                <a:path w="652" h="1684">
                  <a:moveTo>
                    <a:pt x="225" y="1684"/>
                  </a:moveTo>
                  <a:lnTo>
                    <a:pt x="652" y="0"/>
                  </a:lnTo>
                  <a:lnTo>
                    <a:pt x="411" y="0"/>
                  </a:lnTo>
                  <a:lnTo>
                    <a:pt x="0" y="1627"/>
                  </a:lnTo>
                  <a:lnTo>
                    <a:pt x="219" y="1681"/>
                  </a:lnTo>
                  <a:lnTo>
                    <a:pt x="225" y="1684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9"/>
            <p:cNvSpPr/>
            <p:nvPr/>
          </p:nvSpPr>
          <p:spPr>
            <a:xfrm>
              <a:off x="546120" y="2583000"/>
              <a:ext cx="2693880" cy="4275000"/>
            </a:xfrm>
            <a:custGeom>
              <a:avLst/>
              <a:gdLst/>
              <a:ahLst/>
              <a:rect l="l" t="t" r="r" b="b"/>
              <a:pathLst>
                <a:path w="1697" h="2693">
                  <a:moveTo>
                    <a:pt x="0" y="0"/>
                  </a:moveTo>
                  <a:lnTo>
                    <a:pt x="1622" y="2693"/>
                  </a:lnTo>
                  <a:lnTo>
                    <a:pt x="1697" y="26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0"/>
            <p:cNvSpPr/>
            <p:nvPr/>
          </p:nvSpPr>
          <p:spPr>
            <a:xfrm>
              <a:off x="988920" y="2692440"/>
              <a:ext cx="3332160" cy="4165560"/>
            </a:xfrm>
            <a:custGeom>
              <a:avLst/>
              <a:gdLst/>
              <a:ahLst/>
              <a:rect l="l" t="t" r="r" b="b"/>
              <a:pathLst>
                <a:path w="2099" h="2624">
                  <a:moveTo>
                    <a:pt x="2099" y="2624"/>
                  </a:moveTo>
                  <a:lnTo>
                    <a:pt x="0" y="0"/>
                  </a:lnTo>
                  <a:lnTo>
                    <a:pt x="2021" y="2624"/>
                  </a:lnTo>
                  <a:lnTo>
                    <a:pt x="2099" y="2624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1"/>
            <p:cNvSpPr/>
            <p:nvPr/>
          </p:nvSpPr>
          <p:spPr>
            <a:xfrm>
              <a:off x="984240" y="2687760"/>
              <a:ext cx="4576680" cy="4170240"/>
            </a:xfrm>
            <a:custGeom>
              <a:avLst/>
              <a:gdLst/>
              <a:ahLst/>
              <a:rect l="l" t="t" r="r" b="b"/>
              <a:pathLst>
                <a:path w="2883" h="2627">
                  <a:moveTo>
                    <a:pt x="0" y="0"/>
                  </a:moveTo>
                  <a:lnTo>
                    <a:pt x="3" y="3"/>
                  </a:lnTo>
                  <a:lnTo>
                    <a:pt x="2102" y="2627"/>
                  </a:lnTo>
                  <a:lnTo>
                    <a:pt x="2883" y="2627"/>
                  </a:lnTo>
                  <a:lnTo>
                    <a:pt x="225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2"/>
            <p:cNvSpPr/>
            <p:nvPr/>
          </p:nvSpPr>
          <p:spPr>
            <a:xfrm>
              <a:off x="546120" y="2577960"/>
              <a:ext cx="3584520" cy="4280040"/>
            </a:xfrm>
            <a:custGeom>
              <a:avLst/>
              <a:gdLst/>
              <a:ahLst/>
              <a:rect l="l" t="t" r="r" b="b"/>
              <a:pathLst>
                <a:path w="2258" h="2696">
                  <a:moveTo>
                    <a:pt x="2258" y="2696"/>
                  </a:moveTo>
                  <a:lnTo>
                    <a:pt x="264" y="111"/>
                  </a:lnTo>
                  <a:lnTo>
                    <a:pt x="228" y="60"/>
                  </a:lnTo>
                  <a:lnTo>
                    <a:pt x="225" y="57"/>
                  </a:lnTo>
                  <a:lnTo>
                    <a:pt x="0" y="0"/>
                  </a:lnTo>
                  <a:lnTo>
                    <a:pt x="0" y="3"/>
                  </a:lnTo>
                  <a:lnTo>
                    <a:pt x="1697" y="2696"/>
                  </a:lnTo>
                  <a:lnTo>
                    <a:pt x="2258" y="269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5332320" y="5882760"/>
            <a:ext cx="43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B555-A4D4-4B7B-8A0C-4763B7575C35}" type="slidenum">
              <a:rPr b="0" lang="en-MY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97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10952280" y="586692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E764-244C-4681-BFDB-3B6EE0026E8A}" type="slidenum">
              <a:rPr b="0" lang="en-MY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45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TextBox 13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5858-FE9B-4694-BDFE-B3CC45D5A0F6}" type="slidenum">
              <a:rPr b="0" lang="en-MY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95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Box 13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4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7502-E312-4569-8206-9EC5500596CD}" type="slidenum">
              <a:rPr b="0" lang="en-MY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58920" y="749160"/>
            <a:ext cx="9344160" cy="324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6000" spc="-1" strike="noStrike">
                <a:solidFill>
                  <a:srgbClr val="000000"/>
                </a:solidFill>
                <a:latin typeface="Cooper Black"/>
              </a:rPr>
              <a:t>LAPORAN PENCAPAIAN JEPT 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14760" y="3995280"/>
            <a:ext cx="698832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MY" sz="3600" spc="-1" strike="noStrike">
                <a:solidFill>
                  <a:srgbClr val="000000"/>
                </a:solidFill>
                <a:latin typeface="Cooper Black"/>
              </a:rPr>
              <a:t>BAGI SESI 1/2016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900" spc="-1" strike="noStrike">
                <a:solidFill>
                  <a:srgbClr val="000000"/>
                </a:solidFill>
                <a:latin typeface="Corbel"/>
              </a:rPr>
              <a:t>OLEH 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900" spc="-1" strike="noStrike">
                <a:solidFill>
                  <a:srgbClr val="141516"/>
                </a:solidFill>
                <a:latin typeface="Georgia"/>
              </a:rPr>
              <a:t>NAGESWARY SHANMUGHAM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900" spc="-1" strike="noStrike">
                <a:solidFill>
                  <a:srgbClr val="141516"/>
                </a:solidFill>
                <a:latin typeface="Georgia"/>
              </a:rPr>
              <a:t>ILP BUKIT KATIL MELAKA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900" spc="-1" strike="noStrike">
                <a:solidFill>
                  <a:srgbClr val="141516"/>
                </a:solidFill>
                <a:latin typeface="Georgia"/>
              </a:rPr>
              <a:t>KETUA KLUSTER BAHASA INGGERIS ILJTM 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http://sains2u.com/blog/wp-content/uploads/2013/02/the-benefits-of-communication-skills.jpg"/>
          <p:cNvPicPr/>
          <p:nvPr/>
        </p:nvPicPr>
        <p:blipFill>
          <a:blip r:embed="rId1"/>
          <a:stretch/>
        </p:blipFill>
        <p:spPr>
          <a:xfrm rot="20586600">
            <a:off x="5535360" y="4435560"/>
            <a:ext cx="3906720" cy="25048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0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rbel"/>
              </a:rPr>
              <a:t>SKILLS ACQUIRED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1847880" y="1700280"/>
          <a:ext cx="8496360" cy="1297080"/>
        </p:xfrm>
        <a:graphic>
          <a:graphicData uri="http://schemas.openxmlformats.org/drawingml/2006/table">
            <a:tbl>
              <a:tblPr/>
              <a:tblGrid>
                <a:gridCol w="1415880"/>
                <a:gridCol w="1416240"/>
                <a:gridCol w="1415880"/>
                <a:gridCol w="1416240"/>
                <a:gridCol w="1415880"/>
                <a:gridCol w="1416240"/>
              </a:tblGrid>
              <a:tr h="64908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E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A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.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.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.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.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9" name="Up Arrow 4"/>
          <p:cNvSpPr/>
          <p:nvPr/>
        </p:nvSpPr>
        <p:spPr>
          <a:xfrm>
            <a:off x="2063880" y="3141720"/>
            <a:ext cx="792000" cy="1727280"/>
          </a:xfrm>
          <a:prstGeom prst="upArrow">
            <a:avLst>
              <a:gd name="adj1" fmla="val 50000"/>
              <a:gd name="adj2" fmla="val 50009"/>
            </a:avLst>
          </a:prstGeom>
          <a:solidFill>
            <a:srgbClr val="30acec"/>
          </a:solidFill>
          <a:ln cap="rnd" w="15840">
            <a:solidFill>
              <a:srgbClr val="207d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5"/>
          <p:cNvSpPr/>
          <p:nvPr/>
        </p:nvSpPr>
        <p:spPr>
          <a:xfrm>
            <a:off x="1847880" y="484992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nd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6"/>
          <p:cNvSpPr/>
          <p:nvPr/>
        </p:nvSpPr>
        <p:spPr>
          <a:xfrm>
            <a:off x="3143160" y="3429000"/>
            <a:ext cx="72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ents can </a:t>
            </a:r>
            <a:r>
              <a:rPr b="1" lang="en-US" sz="4000" spc="-1" strike="noStrike">
                <a:solidFill>
                  <a:srgbClr val="0070c0"/>
                </a:solidFill>
                <a:latin typeface="Arial"/>
              </a:rPr>
              <a:t>read wel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ut weak in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riting and speak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Box 6"/>
          <p:cNvSpPr/>
          <p:nvPr/>
        </p:nvSpPr>
        <p:spPr>
          <a:xfrm>
            <a:off x="1174680" y="1835280"/>
            <a:ext cx="626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  <a:ea typeface="Arial"/>
              </a:rPr>
              <a:t>Pilot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  <a:ea typeface="Arial"/>
              </a:rPr>
              <a:t>Vs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  <a:ea typeface="Arial"/>
              </a:rPr>
              <a:t>Actua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" descr=""/>
          <p:cNvPicPr/>
          <p:nvPr/>
        </p:nvPicPr>
        <p:blipFill>
          <a:blip r:embed="rId1"/>
          <a:stretch/>
        </p:blipFill>
        <p:spPr>
          <a:xfrm>
            <a:off x="7578720" y="1841400"/>
            <a:ext cx="275256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3880" y="14040"/>
            <a:ext cx="914400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MY" sz="40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295" name="Table 2" descr=""/>
          <p:cNvPicPr/>
          <p:nvPr/>
        </p:nvPicPr>
        <p:blipFill>
          <a:blip r:embed="rId1"/>
          <a:stretch/>
        </p:blipFill>
        <p:spPr>
          <a:xfrm>
            <a:off x="1762200" y="-109440"/>
            <a:ext cx="8326440" cy="69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rbel"/>
              </a:rPr>
              <a:t>IMPROVEMENT SUGGESTIONS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97" name="Picture 2" descr="https://penzu.com/cimages/diary_large.jpg"/>
          <p:cNvPicPr/>
          <p:nvPr/>
        </p:nvPicPr>
        <p:blipFill>
          <a:blip r:embed="rId1"/>
          <a:stretch/>
        </p:blipFill>
        <p:spPr>
          <a:xfrm>
            <a:off x="1971720" y="2108160"/>
            <a:ext cx="8227800" cy="6000840"/>
          </a:xfrm>
          <a:prstGeom prst="rect">
            <a:avLst/>
          </a:prstGeom>
          <a:ln w="0">
            <a:noFill/>
          </a:ln>
        </p:spPr>
      </p:pic>
      <p:grpSp>
        <p:nvGrpSpPr>
          <p:cNvPr id="298" name="TextBox 4"/>
          <p:cNvGrpSpPr/>
          <p:nvPr/>
        </p:nvGrpSpPr>
        <p:grpSpPr>
          <a:xfrm>
            <a:off x="3219480" y="3286080"/>
            <a:ext cx="5394240" cy="1755360"/>
            <a:chOff x="3219480" y="3286080"/>
            <a:chExt cx="5394240" cy="1755360"/>
          </a:xfrm>
        </p:grpSpPr>
        <p:pic>
          <p:nvPicPr>
            <p:cNvPr id="299" name="TextBox 4" descr=""/>
            <p:cNvPicPr/>
            <p:nvPr/>
          </p:nvPicPr>
          <p:blipFill>
            <a:blip r:embed="rId2"/>
            <a:stretch/>
          </p:blipFill>
          <p:spPr>
            <a:xfrm>
              <a:off x="3222360" y="3287160"/>
              <a:ext cx="5387760" cy="17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3219480" y="3286080"/>
              <a:ext cx="53942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541b89"/>
                  </a:solidFill>
                  <a:latin typeface="Arial"/>
                </a:rPr>
                <a:t>Personal Journal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4000" spc="-1" strike="noStrike">
                <a:solidFill>
                  <a:srgbClr val="000000"/>
                </a:solidFill>
                <a:latin typeface="Comic Sans MS"/>
              </a:rPr>
              <a:t>PUBLIC SPEAKING </a:t>
            </a:r>
            <a:br>
              <a:rPr sz="4000"/>
            </a:br>
            <a:r>
              <a:rPr b="0" lang="en-MY" sz="4000" spc="-1" strike="noStrike">
                <a:solidFill>
                  <a:srgbClr val="000000"/>
                </a:solidFill>
                <a:latin typeface="Comic Sans MS"/>
              </a:rPr>
              <a:t>(RANDOM DAYS DURING ASSEMBLY</a:t>
            </a:r>
            <a:r>
              <a:rPr b="0" lang="en-MY" sz="40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2" name="Content Placeholder 3" descr=""/>
          <p:cNvPicPr/>
          <p:nvPr/>
        </p:nvPicPr>
        <p:blipFill>
          <a:blip r:embed="rId1"/>
          <a:stretch/>
        </p:blipFill>
        <p:spPr>
          <a:xfrm>
            <a:off x="6983280" y="2590920"/>
            <a:ext cx="313848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MY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4" name="Content Placeholder 3" descr=""/>
          <p:cNvPicPr/>
          <p:nvPr/>
        </p:nvPicPr>
        <p:blipFill>
          <a:blip r:embed="rId1"/>
          <a:stretch/>
        </p:blipFill>
        <p:spPr>
          <a:xfrm>
            <a:off x="6896160" y="2603520"/>
            <a:ext cx="4432320" cy="37465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"/>
          <p:cNvPicPr/>
          <p:nvPr/>
        </p:nvPicPr>
        <p:blipFill>
          <a:blip r:embed="rId2"/>
          <a:stretch/>
        </p:blipFill>
        <p:spPr>
          <a:xfrm>
            <a:off x="1484280" y="457200"/>
            <a:ext cx="4815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8108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rbel"/>
              </a:rPr>
              <a:t>LIST OF INSTITUTES 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2135160" y="917640"/>
          <a:ext cx="7993080" cy="5724360"/>
        </p:xfrm>
        <a:graphic>
          <a:graphicData uri="http://schemas.openxmlformats.org/drawingml/2006/table">
            <a:tbl>
              <a:tblPr/>
              <a:tblGrid>
                <a:gridCol w="554040"/>
                <a:gridCol w="2190600"/>
                <a:gridCol w="1749600"/>
                <a:gridCol w="1749600"/>
                <a:gridCol w="1749240"/>
              </a:tblGrid>
              <a:tr h="27792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J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-T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 T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644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NG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644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T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608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PALA BAT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644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ER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036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BONG TEB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644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644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ALA LUMP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608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ALA LANG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644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644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KIT KAT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608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AND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644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DA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464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IR GUDA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644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ERS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608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ANT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644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ALA TERENGGAN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644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A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608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TA BHA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644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KOTA SAMARAH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596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RI                                                           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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08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BU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644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TA KINABAL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284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ANDAK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84280" y="380880"/>
            <a:ext cx="10018800" cy="11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rbel"/>
              </a:rPr>
              <a:t>OVERALL PERFORMANCE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42920" y="1557360"/>
          <a:ext cx="11953800" cy="4871880"/>
        </p:xfrm>
        <a:graphic>
          <a:graphicData uri="http://schemas.openxmlformats.org/drawingml/2006/table">
            <a:tbl>
              <a:tblPr/>
              <a:tblGrid>
                <a:gridCol w="1908000"/>
                <a:gridCol w="1435320"/>
                <a:gridCol w="1434960"/>
                <a:gridCol w="1435320"/>
                <a:gridCol w="1434960"/>
                <a:gridCol w="1434960"/>
                <a:gridCol w="1435320"/>
                <a:gridCol w="1434960"/>
              </a:tblGrid>
              <a:tr h="1081080">
                <a:tc>
                  <a:txBody>
                    <a:bodyPr lIns="12600" rIns="126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28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BAND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3c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2600" rIns="126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D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2600" rIns="126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D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9400">
                <a:tc>
                  <a:txBody>
                    <a:bodyPr lIns="12600" rIns="126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 T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lIns="12600" rIns="126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24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3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3cdf4"/>
                    </a:solidFill>
                  </a:tcPr>
                </a:tc>
                <a:tc>
                  <a:txBody>
                    <a:bodyPr lIns="12600" rIns="126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20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3cdf4"/>
                    </a:solidFill>
                  </a:tcPr>
                </a:tc>
                <a:tc>
                  <a:txBody>
                    <a:bodyPr lIns="12600" rIns="126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12600" rIns="126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12600" rIns="126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12600" rIns="126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12600" rIns="126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5880">
                <a:tc>
                  <a:txBody>
                    <a:bodyPr lIns="12600" rIns="126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I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e28cd"/>
                    </a:solidFill>
                  </a:tcPr>
                </a:tc>
                <a:tc>
                  <a:txBody>
                    <a:bodyPr lIns="12600" rIns="126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3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3cdf4"/>
                    </a:solidFill>
                  </a:tcPr>
                </a:tc>
                <a:tc>
                  <a:txBody>
                    <a:bodyPr lIns="12600" rIns="126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28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3cdf4"/>
                    </a:solidFill>
                  </a:tcPr>
                </a:tc>
                <a:tc>
                  <a:txBody>
                    <a:bodyPr lIns="12600" rIns="126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12600" rIns="126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12600" rIns="126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12600" rIns="126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12600" rIns="126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5520">
                <a:tc>
                  <a:txBody>
                    <a:bodyPr lIns="12600" rIns="126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-T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2600" rIns="126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6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3cdf4"/>
                    </a:solidFill>
                  </a:tcPr>
                </a:tc>
                <a:tc>
                  <a:txBody>
                    <a:bodyPr lIns="12600" rIns="126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40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3cdf4"/>
                    </a:solidFill>
                  </a:tcPr>
                </a:tc>
                <a:tc>
                  <a:txBody>
                    <a:bodyPr lIns="12600" rIns="126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12600" rIns="126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12600" rIns="126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12600" rIns="126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12600" rIns="126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84280" y="685440"/>
            <a:ext cx="1001880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rbel"/>
              </a:rPr>
              <a:t>BAND 1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616720" y="1699920"/>
            <a:ext cx="547200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278280" indent="-278280"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0070c0"/>
                </a:solidFill>
                <a:latin typeface="Corbel"/>
              </a:rPr>
              <a:t>51% (335) Decrease 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in number of students obtaining Band 1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8280" indent="-278280"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8280" indent="-278280"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INTERIM: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8280" indent="-278280"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2 ILPs ZERO Band 1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8280" indent="-278280"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(Miri &amp; Tangkak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8280" indent="-278280"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8280" indent="-278280"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POST TEST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8280" indent="-278280"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7 ILPs ZERO Band 1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8280" indent="-278280"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(Miri,NT, K.Langat, Marang, Pedas, Tangkak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719280" y="1700280"/>
          <a:ext cx="4566960" cy="4249800"/>
        </p:xfrm>
        <a:graphic>
          <a:graphicData uri="http://schemas.openxmlformats.org/drawingml/2006/table">
            <a:tbl>
              <a:tblPr/>
              <a:tblGrid>
                <a:gridCol w="1823760"/>
                <a:gridCol w="1371600"/>
                <a:gridCol w="1371600"/>
              </a:tblGrid>
              <a:tr h="1081080">
                <a:tc>
                  <a:txBody>
                    <a:bodyPr lIns="12600" rIns="126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D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5520">
                <a:tc>
                  <a:txBody>
                    <a:bodyPr lIns="12600" rIns="126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 T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7320">
                <a:tc>
                  <a:txBody>
                    <a:bodyPr lIns="12600" rIns="126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5880">
                <a:tc>
                  <a:txBody>
                    <a:bodyPr lIns="12600" rIns="126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-T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Down Arrow 5"/>
          <p:cNvSpPr/>
          <p:nvPr/>
        </p:nvSpPr>
        <p:spPr>
          <a:xfrm flipV="1">
            <a:off x="5424480" y="2924280"/>
            <a:ext cx="947880" cy="273672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30acec"/>
          </a:solidFill>
          <a:ln cap="rnd" w="15840">
            <a:solidFill>
              <a:srgbClr val="207d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Rounded Rectangular Callout 6"/>
          <p:cNvGrpSpPr/>
          <p:nvPr/>
        </p:nvGrpSpPr>
        <p:grpSpPr>
          <a:xfrm>
            <a:off x="281160" y="1359000"/>
            <a:ext cx="2992320" cy="2103480"/>
            <a:chOff x="281160" y="1359000"/>
            <a:chExt cx="2992320" cy="2103480"/>
          </a:xfrm>
        </p:grpSpPr>
        <p:pic>
          <p:nvPicPr>
            <p:cNvPr id="262" name="Rounded Rectangular Callout 6" descr=""/>
            <p:cNvPicPr/>
            <p:nvPr/>
          </p:nvPicPr>
          <p:blipFill>
            <a:blip r:embed="rId1"/>
            <a:stretch/>
          </p:blipFill>
          <p:spPr>
            <a:xfrm>
              <a:off x="281160" y="1359000"/>
              <a:ext cx="2992320" cy="210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387360" y="1465200"/>
              <a:ext cx="1911240" cy="9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 CENA"/>
                  <a:ea typeface="Aharoni"/>
                </a:rPr>
                <a:t>65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 CENA"/>
                  <a:ea typeface="Aharoni"/>
                </a:rPr>
                <a:t>ILP  T’GAN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4" name="Picture 2" descr="C:\Users\Lenovo\Pictures\good.jpg"/>
          <p:cNvPicPr/>
          <p:nvPr/>
        </p:nvPicPr>
        <p:blipFill>
          <a:blip r:embed="rId2"/>
          <a:stretch/>
        </p:blipFill>
        <p:spPr>
          <a:xfrm>
            <a:off x="9929880" y="3038400"/>
            <a:ext cx="169056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http://oyster.ignimgs.com/wordpress/www.ign.com/1587/2014/02/1-thumbs-up.jpg"/>
          <p:cNvPicPr/>
          <p:nvPr/>
        </p:nvPicPr>
        <p:blipFill>
          <a:blip r:embed="rId1"/>
          <a:stretch/>
        </p:blipFill>
        <p:spPr>
          <a:xfrm>
            <a:off x="8796240" y="4330800"/>
            <a:ext cx="2195640" cy="248292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749240" y="444600"/>
            <a:ext cx="1001844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rbel"/>
              </a:rPr>
              <a:t>BAND 2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473880" y="1802880"/>
            <a:ext cx="4643280" cy="25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4040" indent="-28404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70c0"/>
                </a:solidFill>
                <a:latin typeface="Corbel"/>
              </a:rPr>
              <a:t>Slight Decrease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n number of students obtaining        Band 2 for Post Test to Interim Tes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2567160" y="1841400"/>
          <a:ext cx="3425760" cy="4249800"/>
        </p:xfrm>
        <a:graphic>
          <a:graphicData uri="http://schemas.openxmlformats.org/drawingml/2006/table">
            <a:tbl>
              <a:tblPr/>
              <a:tblGrid>
                <a:gridCol w="1368360"/>
                <a:gridCol w="1028520"/>
                <a:gridCol w="1028880"/>
              </a:tblGrid>
              <a:tr h="1081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D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5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 T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7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5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-T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9" name="Down Arrow 5"/>
          <p:cNvSpPr/>
          <p:nvPr/>
        </p:nvSpPr>
        <p:spPr>
          <a:xfrm flipV="1">
            <a:off x="6068880" y="3600360"/>
            <a:ext cx="587520" cy="241776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30acec"/>
          </a:solidFill>
          <a:ln cap="rnd" w="15840">
            <a:solidFill>
              <a:srgbClr val="207d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Rounded Rectangular Callout 6"/>
          <p:cNvGrpSpPr/>
          <p:nvPr/>
        </p:nvGrpSpPr>
        <p:grpSpPr>
          <a:xfrm>
            <a:off x="133200" y="1779480"/>
            <a:ext cx="2652840" cy="3395880"/>
            <a:chOff x="133200" y="1779480"/>
            <a:chExt cx="2652840" cy="3395880"/>
          </a:xfrm>
        </p:grpSpPr>
        <p:pic>
          <p:nvPicPr>
            <p:cNvPr id="271" name="Rounded Rectangular Callout 6" descr=""/>
            <p:cNvPicPr/>
            <p:nvPr/>
          </p:nvPicPr>
          <p:blipFill>
            <a:blip r:embed="rId2"/>
            <a:stretch/>
          </p:blipFill>
          <p:spPr>
            <a:xfrm>
              <a:off x="133200" y="1779480"/>
              <a:ext cx="2652840" cy="339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287280" y="1951200"/>
              <a:ext cx="2017800" cy="23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Withou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1) Ilp KS (Pre &amp; Interim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2) IlpPerai (interim &amp; post 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3) Ilp Mersing (post tes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4)Ilp Sandakan (pre, interim &amp; pos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3" name="Picture 2" descr="http://oyster.ignimgs.com/wordpress/www.ign.com/1587/2014/02/1-thumbs-up.jpg"/>
          <p:cNvPicPr/>
          <p:nvPr/>
        </p:nvPicPr>
        <p:blipFill>
          <a:blip r:embed="rId3"/>
          <a:stretch/>
        </p:blipFill>
        <p:spPr>
          <a:xfrm>
            <a:off x="8948880" y="4483080"/>
            <a:ext cx="219528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84280" y="406080"/>
            <a:ext cx="10018800" cy="11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rbel"/>
              </a:rPr>
              <a:t>RESULT: BAND 3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992240" y="1700280"/>
          <a:ext cx="4032360" cy="4681440"/>
        </p:xfrm>
        <a:graphic>
          <a:graphicData uri="http://schemas.openxmlformats.org/drawingml/2006/table">
            <a:tbl>
              <a:tblPr/>
              <a:tblGrid>
                <a:gridCol w="1344600"/>
                <a:gridCol w="1343160"/>
                <a:gridCol w="1344600"/>
              </a:tblGrid>
              <a:tr h="101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D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4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 T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%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2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%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-T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%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Content Placeholder 2"/>
          <p:cNvSpPr/>
          <p:nvPr/>
        </p:nvSpPr>
        <p:spPr>
          <a:xfrm>
            <a:off x="5951520" y="1844640"/>
            <a:ext cx="4716360" cy="42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70c0"/>
                </a:solidFill>
                <a:latin typeface="Corbel"/>
              </a:rPr>
              <a:t>           </a:t>
            </a:r>
            <a:r>
              <a:rPr b="1" lang="en-US" sz="3100" spc="-1" strike="noStrike">
                <a:solidFill>
                  <a:srgbClr val="ff0000"/>
                </a:solidFill>
                <a:latin typeface="Corbel"/>
              </a:rPr>
              <a:t>638 students </a:t>
            </a:r>
            <a:r>
              <a:rPr b="1" lang="en-US" sz="3100" spc="-1" strike="noStrike">
                <a:solidFill>
                  <a:srgbClr val="0070c0"/>
                </a:solidFill>
                <a:latin typeface="Corbel"/>
              </a:rPr>
              <a:t>achieved Band 3 for Post test to </a:t>
            </a:r>
            <a:r>
              <a:rPr b="1" lang="en-US" sz="3100" spc="-1" strike="noStrike">
                <a:solidFill>
                  <a:srgbClr val="ff0000"/>
                </a:solidFill>
                <a:latin typeface="Corbel"/>
              </a:rPr>
              <a:t>300 students for Pre tes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70c0"/>
                </a:solidFill>
                <a:latin typeface="Corbel"/>
              </a:rPr>
              <a:t>(effectiveness of JEPT &amp;Teacher guide book)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Top 3 IL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514440">
              <a:lnSpc>
                <a:spcPct val="80000"/>
              </a:lnSpc>
              <a:spcBef>
                <a:spcPts val="601"/>
              </a:spcBef>
              <a:buClr>
                <a:srgbClr val="0d0d0d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rbel"/>
                <a:ea typeface="Arial"/>
              </a:rPr>
              <a:t>Mi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514440">
              <a:lnSpc>
                <a:spcPct val="80000"/>
              </a:lnSpc>
              <a:spcBef>
                <a:spcPts val="601"/>
              </a:spcBef>
              <a:buClr>
                <a:srgbClr val="0d0d0d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rbel"/>
                <a:ea typeface="Arial"/>
              </a:rPr>
              <a:t>Kuala Lump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514440">
              <a:lnSpc>
                <a:spcPct val="80000"/>
              </a:lnSpc>
              <a:spcBef>
                <a:spcPts val="601"/>
              </a:spcBef>
              <a:buClr>
                <a:srgbClr val="0d0d0d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rbel"/>
                <a:ea typeface="Arial"/>
              </a:rPr>
              <a:t>Kota Samara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MY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8" name="Picture 2" descr="C:\Users\Lenovo\Pictures\good.jpg"/>
          <p:cNvPicPr/>
          <p:nvPr/>
        </p:nvPicPr>
        <p:blipFill>
          <a:blip r:embed="rId1"/>
          <a:stretch/>
        </p:blipFill>
        <p:spPr>
          <a:xfrm>
            <a:off x="7162920" y="3254400"/>
            <a:ext cx="2565360" cy="2460600"/>
          </a:xfrm>
          <a:prstGeom prst="rect">
            <a:avLst/>
          </a:prstGeom>
          <a:ln w="0">
            <a:noFill/>
          </a:ln>
        </p:spPr>
      </p:pic>
      <p:sp>
        <p:nvSpPr>
          <p:cNvPr id="279" name="Rounded Rectangular Callout 3"/>
          <p:cNvSpPr/>
          <p:nvPr/>
        </p:nvSpPr>
        <p:spPr>
          <a:xfrm>
            <a:off x="2197080" y="1128600"/>
            <a:ext cx="5105520" cy="2044800"/>
          </a:xfrm>
          <a:prstGeom prst="wedgeRoundRectCallout">
            <a:avLst>
              <a:gd name="adj1" fmla="val -1740"/>
              <a:gd name="adj2" fmla="val 76166"/>
              <a:gd name="adj3" fmla="val 16667"/>
            </a:avLst>
          </a:prstGeom>
          <a:solidFill>
            <a:srgbClr val="ffff00"/>
          </a:solidFill>
          <a:ln cap="rnd"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d0d0d"/>
                </a:solidFill>
                <a:latin typeface="Comic Sans MS"/>
              </a:rPr>
              <a:t>Kudos!!! To The Teachers  From Ilp Miri, K.L &amp; Kota  Samara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4800" spc="-1" strike="noStrike">
                <a:solidFill>
                  <a:srgbClr val="000000"/>
                </a:solidFill>
                <a:latin typeface="Cooper Black"/>
              </a:rPr>
              <a:t>TOP 10 INSTITUTES</a:t>
            </a:r>
            <a:br>
              <a:rPr sz="4800"/>
            </a:br>
            <a:r>
              <a:rPr b="0" lang="en-MY" sz="4800" spc="-1" strike="noStrike">
                <a:solidFill>
                  <a:srgbClr val="000000"/>
                </a:solidFill>
                <a:latin typeface="Cooper Black"/>
              </a:rPr>
              <a:t>FOR POST- TEST  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1" name="Picture 2" descr="http://oyster.ignimgs.com/wordpress/www.ign.com/1587/2014/02/1-thumbs-up.jpg"/>
          <p:cNvPicPr/>
          <p:nvPr/>
        </p:nvPicPr>
        <p:blipFill>
          <a:blip r:embed="rId1"/>
          <a:stretch/>
        </p:blipFill>
        <p:spPr>
          <a:xfrm>
            <a:off x="8008920" y="2997360"/>
            <a:ext cx="2195640" cy="24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68120" y="43920"/>
            <a:ext cx="824220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MY" sz="2400" spc="-1" strike="noStrike">
              <a:solidFill>
                <a:srgbClr val="0070c0"/>
              </a:solidFill>
              <a:latin typeface="Corbe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496880" y="281160"/>
          <a:ext cx="8713800" cy="4208400"/>
        </p:xfrm>
        <a:graphic>
          <a:graphicData uri="http://schemas.openxmlformats.org/drawingml/2006/table">
            <a:tbl>
              <a:tblPr/>
              <a:tblGrid>
                <a:gridCol w="2059200"/>
                <a:gridCol w="950760"/>
                <a:gridCol w="951120"/>
                <a:gridCol w="950760"/>
                <a:gridCol w="950760"/>
                <a:gridCol w="949320"/>
                <a:gridCol w="951120"/>
                <a:gridCol w="950760"/>
              </a:tblGrid>
              <a:tr h="862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JT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D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D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D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R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478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NGK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477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ALA LUMPU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479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ALA LANGA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TA SAMARA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BU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A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1496880" y="4489560"/>
          <a:ext cx="8713800" cy="514080"/>
        </p:xfrm>
        <a:graphic>
          <a:graphicData uri="http://schemas.openxmlformats.org/drawingml/2006/table">
            <a:tbl>
              <a:tblPr/>
              <a:tblGrid>
                <a:gridCol w="2070360"/>
                <a:gridCol w="949320"/>
                <a:gridCol w="949320"/>
                <a:gridCol w="949320"/>
                <a:gridCol w="949320"/>
                <a:gridCol w="947520"/>
                <a:gridCol w="949320"/>
                <a:gridCol w="949320"/>
              </a:tblGrid>
              <a:tr h="514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DA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1496880" y="5003640"/>
          <a:ext cx="8713800" cy="474840"/>
        </p:xfrm>
        <a:graphic>
          <a:graphicData uri="http://schemas.openxmlformats.org/drawingml/2006/table">
            <a:tbl>
              <a:tblPr/>
              <a:tblGrid>
                <a:gridCol w="2059200"/>
                <a:gridCol w="950760"/>
                <a:gridCol w="951120"/>
                <a:gridCol w="950760"/>
                <a:gridCol w="950760"/>
                <a:gridCol w="949320"/>
                <a:gridCol w="951120"/>
                <a:gridCol w="950760"/>
              </a:tblGrid>
              <a:tr h="474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O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MY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3T04:38:16Z</dcterms:created>
  <dc:creator>ILPBK PENGAJIAN UMUM</dc:creator>
  <dc:description/>
  <dc:language>en-US</dc:language>
  <cp:lastModifiedBy>ILPBK PENGAJIAN UMUM</cp:lastModifiedBy>
  <dcterms:modified xsi:type="dcterms:W3CDTF">2016-08-31T08:00:39Z</dcterms:modified>
  <cp:revision>68</cp:revision>
  <dc:subject/>
  <dc:title>LAPORAN PENCAPAIAN JEPT</dc:title>
</cp:coreProperties>
</file>