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6"/>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move the slide</a:t>
            </a:r>
            <a:endParaRPr b="0" lang="en-US" sz="5400" spc="-1" strike="noStrike">
              <a:solidFill>
                <a:srgbClr val="262626"/>
              </a:solidFill>
              <a:latin typeface="Impact"/>
            </a:endParaRPr>
          </a:p>
        </p:txBody>
      </p:sp>
      <p:sp>
        <p:nvSpPr>
          <p:cNvPr id="222"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7"/>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8"/>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8E81-E8C5-4AF1-B07A-F9936A7A02B9}" type="slidenum">
              <a:rPr b="0" lang="en-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32040" y="741240"/>
            <a:ext cx="4933800" cy="3702240"/>
          </a:xfrm>
          <a:prstGeom prst="rect">
            <a:avLst/>
          </a:prstGeom>
          <a:ln w="0">
            <a:noFill/>
          </a:ln>
        </p:spPr>
      </p:sp>
      <p:sp>
        <p:nvSpPr>
          <p:cNvPr id="24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24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E8EA-9544-4FBB-BC26-DFC0352EB4D9}" type="slidenum">
              <a:rPr b="0" lang="en-MY"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8C1B7-7D75-46F6-B223-9F2A728D0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47A5-82CE-4A1C-8392-7BB6E6CE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63381-FAF6-4F70-843F-CE9F4D0ED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F0B39-2B23-41AD-81F9-780344D0B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572DD-21AA-42B6-8949-324BD6C87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01B8B-0C10-41F0-A6DB-AD8F86E6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7E82E-B694-46A0-9B7C-F48F22E80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95089-B843-4886-96A3-55FC962F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C4F05-E501-4A3B-ABB6-6A34283D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598E3-2E3A-428E-98D4-49950571A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479C7-1A39-4753-98F5-F5A108453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F34F-D11F-4ED2-B180-8DDAA4825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E8681-C8E3-46AC-8D1E-04CE34094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DACB5-100E-494E-A6B9-BFE122435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64249-B2D2-495C-83B8-6C6724323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6857F-F133-4C69-99B0-B7A7DA13A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CE8E8-F8E9-4545-A736-03240AA32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AAE10-8DCD-44C5-B814-35A71B102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B9A73-7C2D-49EC-9F76-440454886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464E7-682B-4357-A09B-5412DBF19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D06DF-C77F-4AEF-B848-A952296A3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382D6-974D-482D-904B-73B9297AD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43B5-5E27-4A32-9880-10548E2F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A8FBB-369E-4E23-9CFF-A87DA945B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FACFD-23B4-4381-BC31-4BB976790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3C2E9-0A2C-4F86-9B88-178B2C24B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59AE1-91F8-4AE1-9D2F-9C4EB7238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86687-5B1A-41E1-93D2-B5B8E5532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22FB0-C281-437F-83BA-35C23729A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F63A1-CCEC-4051-B927-A9941137C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8FD23-36F5-4AA4-82A1-391E7B734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FD27C-2D23-4938-8D40-ABD3BBA34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9AED7-4CA8-45E2-BE35-C145238F7A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F6FE-6D9E-45A7-9155-3496D980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C0809-1D11-4C94-BD0C-776625038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0F71C-B9BD-4130-9F33-0DEDBF1DE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7A1FA-BE8E-4DF7-B468-CD545D8EC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B8FCF-A568-4C48-9217-9A5911D3E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C947B-FFE3-4B27-8FC7-0A09992A1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0C51D-FD55-44BF-8687-68D44F13A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D5EB6-85B2-4C86-9768-AE3B6E907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E3EE3-52D2-4500-9808-4F077ADECE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1A927-E865-45B5-90E1-4A23D4D089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BB37C3-F5C9-4E1C-BFF4-2A8C76CFF7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D664-3D2B-488B-9B9F-201D666F4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1AFB0-A1B5-48BC-8B4E-A2B0C5A8A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12787-6AAA-4295-919E-23A64EE2A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FC951D-492E-4895-9083-87CA7A53A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489BF-FBAE-4766-B778-C29BEAC6E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20794-579A-43BF-9C0B-60F10AFD4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500B3-6EA7-4932-91F4-8D37CD7EA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227CF-8C12-42E3-9076-EB81D0C4A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C98FC-CEDF-45D7-ADBE-53CD2B0A2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EC826-190A-4E55-BA47-17A3AE7CB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1715A-A9E2-4ABC-B2FA-1D56A26B28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262A8-912C-47A5-B8A1-56635634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6F62C-6E91-46F9-B3D1-02367D8AD9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AB14-FB9E-415F-A7EC-98C9610D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57BA-1A71-4A1B-919E-F00B9B13F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2D8E-9813-48D3-AC27-503D286E4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D37D-36D6-4ECA-AB94-BA8C4A0643D1}" type="slidenum">
              <a:rPr b="0" lang="en-MY"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5B88-5CC5-4204-8144-4BFC9C75B0EF}" type="slidenum">
              <a:rPr b="0" lang="en-MY"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635E-15F5-4BAF-A301-43538E05FAA2}" type="slidenum">
              <a:rPr b="0" lang="en-MY"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Straight Connector 9"/>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ranklin Gothic Book"/>
            </a:endParaRPr>
          </a:p>
        </p:txBody>
      </p:sp>
      <p:sp>
        <p:nvSpPr>
          <p:cNvPr id="132" name="Straight Connector 10"/>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116A-7426-4DAF-861F-C25059660FB4}" type="slidenum">
              <a:rPr b="0" lang="en-MY"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B888-BF5A-4042-8E57-A5AC70DD01D6}" type="slidenum">
              <a:rPr b="0" lang="en-MY"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3"/>
          <p:cNvSpPr/>
          <p:nvPr/>
        </p:nvSpPr>
        <p:spPr>
          <a:xfrm>
            <a:off x="1332000" y="3429000"/>
            <a:ext cx="6624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Berlin Sans FB Demi"/>
                <a:ea typeface="Adobe Gothic Std B"/>
              </a:rPr>
              <a:t>PERMOHONAN MENGENAKAN CAJ BAYARAN KEPADA PELAJAR YANG KEHILANGAN SLIP PEPERIKSAAN AKHIR SPC.04</a:t>
            </a:r>
            <a:endParaRPr b="0" lang="en-US" sz="2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Berlin Sans FB Demi"/>
                <a:ea typeface="Adobe Gothic Std B"/>
              </a:rPr>
              <a:t>Cadangan : ILP Kuala Langat</a:t>
            </a:r>
            <a:endParaRPr b="0" lang="en-US" sz="2800" spc="-1" strike="noStrike">
              <a:solidFill>
                <a:srgbClr val="000000"/>
              </a:solidFill>
              <a:latin typeface="Franklin Gothic Book"/>
            </a:endParaRPr>
          </a:p>
        </p:txBody>
      </p:sp>
      <p:pic>
        <p:nvPicPr>
          <p:cNvPr id="226" name="Picture 4" descr="logo_final"/>
          <p:cNvPicPr/>
          <p:nvPr/>
        </p:nvPicPr>
        <p:blipFill>
          <a:blip r:embed="rId1"/>
          <a:stretch/>
        </p:blipFill>
        <p:spPr>
          <a:xfrm>
            <a:off x="179280" y="333360"/>
            <a:ext cx="2057400" cy="12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4"/>
          <p:cNvSpPr/>
          <p:nvPr/>
        </p:nvSpPr>
        <p:spPr>
          <a:xfrm>
            <a:off x="4078440" y="620640"/>
            <a:ext cx="102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TUJUAN</a:t>
            </a:r>
            <a:endParaRPr b="0" lang="en-US" sz="1800" spc="-1" strike="noStrike">
              <a:solidFill>
                <a:srgbClr val="000000"/>
              </a:solidFill>
              <a:latin typeface="Franklin Gothic Book"/>
            </a:endParaRPr>
          </a:p>
        </p:txBody>
      </p:sp>
      <p:sp>
        <p:nvSpPr>
          <p:cNvPr id="228" name="TextBox 5"/>
          <p:cNvSpPr/>
          <p:nvPr/>
        </p:nvSpPr>
        <p:spPr>
          <a:xfrm>
            <a:off x="3417480" y="1835280"/>
            <a:ext cx="20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LATAR BELAKANG</a:t>
            </a:r>
            <a:endParaRPr b="0" lang="en-US" sz="1800" spc="-1" strike="noStrike">
              <a:solidFill>
                <a:srgbClr val="000000"/>
              </a:solidFill>
              <a:latin typeface="Franklin Gothic Book"/>
            </a:endParaRPr>
          </a:p>
        </p:txBody>
      </p:sp>
      <p:sp>
        <p:nvSpPr>
          <p:cNvPr id="229" name="TextBox 1"/>
          <p:cNvSpPr/>
          <p:nvPr/>
        </p:nvSpPr>
        <p:spPr>
          <a:xfrm>
            <a:off x="971640" y="1052640"/>
            <a:ext cx="7129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Memohon kelulusan untuk mengenakan caj bayaran sebanyak RM 10.00 kepada pelajar yang telah kehilangan slip keputusan asal. (SPC.04)</a:t>
            </a:r>
            <a:endParaRPr b="0" lang="en-US" sz="16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
        <p:nvSpPr>
          <p:cNvPr id="230" name="TextBox 4"/>
          <p:cNvSpPr/>
          <p:nvPr/>
        </p:nvSpPr>
        <p:spPr>
          <a:xfrm>
            <a:off x="971640" y="2349360"/>
            <a:ext cx="71294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asal keputusan Peperiksaan Akhir SPC.04 diedarkan kepada semua pelajar selepas keputusan Peperiksaan Akhir dijana iaitu pada minggu pertama sesi semester baharu. Slip keputusan ini digunakan bagi tujuan temuduga untuk melanjutkan  pelajaran ke peringkat yang lebih tinggi, temuduga kerja dan sebagai rujukan pelajar tentang silibus, CGPA dan GPA sebelum pelajar-pelajar bergraduasi.</a:t>
            </a:r>
            <a:endParaRPr b="0" lang="en-US" sz="1600" spc="-1" strike="noStrike">
              <a:solidFill>
                <a:srgbClr val="000000"/>
              </a:solidFill>
              <a:latin typeface="Franklin Gothic Book"/>
            </a:endParaRPr>
          </a:p>
        </p:txBody>
      </p:sp>
      <p:sp>
        <p:nvSpPr>
          <p:cNvPr id="231" name="TextBox 4"/>
          <p:cNvSpPr/>
          <p:nvPr/>
        </p:nvSpPr>
        <p:spPr>
          <a:xfrm>
            <a:off x="3067920" y="4076640"/>
            <a:ext cx="307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JUSTIFIKASI PELAKSANAAN</a:t>
            </a:r>
            <a:endParaRPr b="0" lang="en-US" sz="1800" spc="-1" strike="noStrike">
              <a:solidFill>
                <a:srgbClr val="000000"/>
              </a:solidFill>
              <a:latin typeface="Franklin Gothic Book"/>
            </a:endParaRPr>
          </a:p>
        </p:txBody>
      </p:sp>
      <p:sp>
        <p:nvSpPr>
          <p:cNvPr id="232" name="TextBox 6"/>
          <p:cNvSpPr/>
          <p:nvPr/>
        </p:nvSpPr>
        <p:spPr>
          <a:xfrm>
            <a:off x="826920" y="4581360"/>
            <a:ext cx="75614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Antara alasan yang diberikan oleh pelajar untuk cetakan semula Slip Peperiksaan Akhir (SPC.04)</a:t>
            </a:r>
            <a:endParaRPr b="0" lang="en-US" sz="16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Peperiksaan Akhir telah hilang/ rosak</a:t>
            </a:r>
            <a:endParaRPr b="0" lang="en-US" sz="1600" spc="-1" strike="noStrike">
              <a:solidFill>
                <a:srgbClr val="000000"/>
              </a:solidFill>
              <a:latin typeface="Franklin Gothic 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Peperiksaan Akhir tidak pernah diberi oleh pihak pengurusan (BKKL/ UPP)</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Diagram 3" descr=""/>
          <p:cNvPicPr/>
          <p:nvPr/>
        </p:nvPicPr>
        <p:blipFill>
          <a:blip r:embed="rId1"/>
          <a:stretch/>
        </p:blipFill>
        <p:spPr>
          <a:xfrm>
            <a:off x="927000" y="1322280"/>
            <a:ext cx="7321680" cy="4572000"/>
          </a:xfrm>
          <a:prstGeom prst="rect">
            <a:avLst/>
          </a:prstGeom>
          <a:ln w="0">
            <a:noFill/>
          </a:ln>
        </p:spPr>
      </p:pic>
      <p:sp>
        <p:nvSpPr>
          <p:cNvPr id="234" name="TextBox 4"/>
          <p:cNvSpPr/>
          <p:nvPr/>
        </p:nvSpPr>
        <p:spPr>
          <a:xfrm>
            <a:off x="3048840" y="62064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CADANGAN PELAKSANAA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3"/>
          <p:cNvSpPr/>
          <p:nvPr/>
        </p:nvSpPr>
        <p:spPr>
          <a:xfrm>
            <a:off x="2682000" y="836640"/>
            <a:ext cx="367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KESAN/ IMPIKASI PELAKSANAAN</a:t>
            </a:r>
            <a:endParaRPr b="0" lang="en-US" sz="1800" spc="-1" strike="noStrike">
              <a:solidFill>
                <a:srgbClr val="000000"/>
              </a:solidFill>
              <a:latin typeface="Franklin Gothic Book"/>
            </a:endParaRPr>
          </a:p>
        </p:txBody>
      </p:sp>
      <p:pic>
        <p:nvPicPr>
          <p:cNvPr id="236" name="Diagram 3" descr=""/>
          <p:cNvPicPr/>
          <p:nvPr/>
        </p:nvPicPr>
        <p:blipFill>
          <a:blip r:embed="rId1"/>
          <a:stretch/>
        </p:blipFill>
        <p:spPr>
          <a:xfrm>
            <a:off x="768240" y="1596960"/>
            <a:ext cx="3535560" cy="2573280"/>
          </a:xfrm>
          <a:prstGeom prst="rect">
            <a:avLst/>
          </a:prstGeom>
          <a:ln w="0">
            <a:noFill/>
          </a:ln>
        </p:spPr>
      </p:pic>
      <p:pic>
        <p:nvPicPr>
          <p:cNvPr id="237" name="Diagram 9" descr=""/>
          <p:cNvPicPr/>
          <p:nvPr/>
        </p:nvPicPr>
        <p:blipFill>
          <a:blip r:embed="rId2"/>
          <a:stretch/>
        </p:blipFill>
        <p:spPr>
          <a:xfrm>
            <a:off x="4791240" y="1676520"/>
            <a:ext cx="3517560" cy="250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5"/>
          <p:cNvSpPr/>
          <p:nvPr/>
        </p:nvSpPr>
        <p:spPr>
          <a:xfrm>
            <a:off x="2236320" y="476280"/>
            <a:ext cx="433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KAJIAN PELAKSANAAN DI AGENSI LAIN</a:t>
            </a:r>
            <a:endParaRPr b="0" lang="en-US" sz="1800" spc="-1" strike="noStrike">
              <a:solidFill>
                <a:srgbClr val="000000"/>
              </a:solidFill>
              <a:latin typeface="Franklin Gothic Book"/>
            </a:endParaRPr>
          </a:p>
        </p:txBody>
      </p:sp>
      <p:graphicFrame>
        <p:nvGraphicFramePr>
          <p:cNvPr id="239" name=""/>
          <p:cNvGraphicFramePr/>
          <p:nvPr/>
        </p:nvGraphicFramePr>
        <p:xfrm>
          <a:off x="468360" y="900000"/>
          <a:ext cx="8280360" cy="5121360"/>
        </p:xfrm>
        <a:graphic>
          <a:graphicData uri="http://schemas.openxmlformats.org/drawingml/2006/table">
            <a:tbl>
              <a:tblPr/>
              <a:tblGrid>
                <a:gridCol w="623880"/>
                <a:gridCol w="2087640"/>
                <a:gridCol w="1831680"/>
                <a:gridCol w="1611360"/>
                <a:gridCol w="2125800"/>
              </a:tblGrid>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ffffff"/>
                          </a:solidFill>
                          <a:latin typeface="Franklin Gothic Book"/>
                        </a:rPr>
                        <a:t>Bil</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24e5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ffffff"/>
                          </a:solidFill>
                          <a:latin typeface="Franklin Gothic Book"/>
                        </a:rPr>
                        <a:t>IPT/IPTA</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24e5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ffffff"/>
                          </a:solidFill>
                          <a:latin typeface="Franklin Gothic Book"/>
                        </a:rPr>
                        <a:t>Dokumen </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24e5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ffffff"/>
                          </a:solidFill>
                          <a:latin typeface="Franklin Gothic Book"/>
                        </a:rPr>
                        <a:t>Caj</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24e5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ffffff"/>
                          </a:solidFill>
                          <a:latin typeface="Franklin Gothic Book"/>
                        </a:rPr>
                        <a:t>Kaedah</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24e5b"/>
                    </a:solidFill>
                  </a:tcPr>
                </a:tc>
              </a:tr>
              <a:tr h="57852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1</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fd0d2"/>
                    </a:solidFill>
                  </a:tcPr>
                </a:tc>
                <a:tc row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Politeknik</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Keputus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Tiada</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istem Online/ Portal Pelajar</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fd0d2"/>
                    </a:solidFill>
                  </a:tcPr>
                </a:tc>
              </a:tr>
              <a:tr h="3366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Transkrip</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1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Cetakan oleh Unit Persijil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ijil/ Scroll</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5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3516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4</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row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UITM</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Keputus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1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Cetakan oleh Unit Persijil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Transkrip</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1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ijil/ Scroll</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5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3660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2</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row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Institut Kemahiran Mara (IKM) </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Franklin Gothic Book"/>
                        </a:rPr>
                        <a:t>* Tertakluk kepada pindaan dari semasa ke semasa</a:t>
                      </a:r>
                      <a:endParaRPr b="0" lang="en-US" sz="12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Keputus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3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Cetakan oleh Unit Persijil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Transkrip</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3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Sijil Kemahiran Mara</a:t>
                      </a:r>
                      <a:r>
                        <a:rPr b="0" lang="en-MY" sz="1600" spc="-1" strike="noStrike">
                          <a:solidFill>
                            <a:srgbClr val="000000"/>
                          </a:solidFill>
                          <a:latin typeface="Franklin Gothic Book"/>
                        </a:rPr>
                        <a:t>/ Scroll</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RM50.00</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BKT</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r>
              <a:tr h="57888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row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Institut Kemahiran Belia Negara (IKB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Slip Keputus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Tiada</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Cetakan oleh Unit Persijil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Transkrip</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Tiada</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Cetakan oleh Kem. Belia &amp; Sukan</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fd0d2"/>
                    </a:solidFill>
                  </a:tcPr>
                </a:tc>
              </a:tr>
              <a:tr h="3351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Sijil (KBS)</a:t>
                      </a:r>
                      <a:r>
                        <a:rPr b="0" lang="en-MY" sz="1600" spc="-1" strike="noStrike">
                          <a:solidFill>
                            <a:srgbClr val="000000"/>
                          </a:solidFill>
                          <a:latin typeface="Franklin Gothic Book"/>
                        </a:rPr>
                        <a:t>/</a:t>
                      </a:r>
                      <a:r>
                        <a:rPr b="1" lang="en-MY" sz="1600" spc="-1" strike="noStrike">
                          <a:solidFill>
                            <a:srgbClr val="000000"/>
                          </a:solidFill>
                          <a:latin typeface="Franklin Gothic Book"/>
                        </a:rPr>
                        <a:t> </a:t>
                      </a:r>
                      <a:r>
                        <a:rPr b="0" lang="en-MY" sz="1600" spc="-1" strike="noStrike">
                          <a:solidFill>
                            <a:srgbClr val="000000"/>
                          </a:solidFill>
                          <a:latin typeface="Franklin Gothic Book"/>
                        </a:rPr>
                        <a:t>Scroll</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600" spc="-1" strike="noStrike">
                          <a:solidFill>
                            <a:srgbClr val="000000"/>
                          </a:solidFill>
                          <a:latin typeface="Franklin Gothic Book"/>
                        </a:rPr>
                        <a:t>Tiada</a:t>
                      </a:r>
                      <a:endParaRPr b="0" lang="en-US" sz="16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a"/>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5"/>
          <p:cNvSpPr/>
          <p:nvPr/>
        </p:nvSpPr>
        <p:spPr>
          <a:xfrm>
            <a:off x="3895200" y="682560"/>
            <a:ext cx="1445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CADANGAN</a:t>
            </a:r>
            <a:endParaRPr b="0" lang="en-US" sz="1800" spc="-1" strike="noStrike">
              <a:solidFill>
                <a:srgbClr val="000000"/>
              </a:solidFill>
              <a:latin typeface="Franklin Gothic Book"/>
            </a:endParaRPr>
          </a:p>
        </p:txBody>
      </p:sp>
      <p:sp>
        <p:nvSpPr>
          <p:cNvPr id="241" name="TextBox 4"/>
          <p:cNvSpPr/>
          <p:nvPr/>
        </p:nvSpPr>
        <p:spPr>
          <a:xfrm>
            <a:off x="826920" y="1222200"/>
            <a:ext cx="7632720" cy="1465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Menambahbaik sistem yang telah sedia ada iaitu Training Management System (TMS) dengan satu aplikasi tambahan yang boleh di akses oleh pelajar bagi memudahkan cetakan dibuat oleh pelajar sendiri.</a:t>
            </a:r>
            <a:endParaRPr b="0" lang="en-US" sz="1800" spc="-1" strike="noStrike">
              <a:solidFill>
                <a:srgbClr val="000000"/>
              </a:solidFill>
              <a:latin typeface="Franklin Gothic Book"/>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Menguatkuasa caj bayaran bagi transkrip dan sijil.</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3"/>
          <p:cNvSpPr/>
          <p:nvPr/>
        </p:nvSpPr>
        <p:spPr>
          <a:xfrm>
            <a:off x="684360" y="2347920"/>
            <a:ext cx="7791480" cy="37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1400" spc="-1" strike="noStrike">
                <a:solidFill>
                  <a:srgbClr val="c00000"/>
                </a:solidFill>
                <a:latin typeface="Franklin Gothic Book"/>
              </a:rPr>
              <a:t>*** Untuk  makluman hasil daripada caj yang dikenakan tidak  boleh dimasukkan ke dalam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1400" spc="-1" strike="noStrike">
                <a:solidFill>
                  <a:srgbClr val="c00000"/>
                </a:solidFill>
                <a:latin typeface="Franklin Gothic Book"/>
              </a:rPr>
              <a:t>akaun amanah dan hanya  boleh dimasukkan  ke dalam hasil.</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Franklin Gothic Book"/>
              </a:rPr>
              <a:t>*** Caj bayaran untuk pengeluaran semula sijil - Sijil Kemahiran Malaysia (SKM)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Franklin Gothic Book"/>
              </a:rPr>
              <a:t>Hilang – RM 55.00</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Franklin Gothic Book"/>
              </a:rPr>
              <a:t>Salah Cetak – RM 20.00</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1400" spc="-1" strike="noStrike">
                <a:solidFill>
                  <a:srgbClr val="c00000"/>
                </a:solidFill>
                <a:latin typeface="Franklin Gothic Book"/>
              </a:rPr>
              <a:t>RUJUKAN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1400" spc="-1" strike="noStrike">
                <a:solidFill>
                  <a:srgbClr val="c00000"/>
                </a:solidFill>
                <a:latin typeface="Franklin Gothic Book"/>
              </a:rPr>
              <a:t>http://www.slideshare.net/zamanim77/peraturan-akedemik</a:t>
            </a:r>
            <a:endParaRPr b="0" lang="en-US" sz="1400" spc="-1" strike="noStrike">
              <a:solidFill>
                <a:srgbClr val="000000"/>
              </a:solidFill>
              <a:latin typeface="Franklin Gothic Book"/>
            </a:endParaRPr>
          </a:p>
        </p:txBody>
      </p:sp>
      <p:sp>
        <p:nvSpPr>
          <p:cNvPr id="243" name="TextBox 1"/>
          <p:cNvSpPr/>
          <p:nvPr/>
        </p:nvSpPr>
        <p:spPr>
          <a:xfrm>
            <a:off x="468360" y="278136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Franklin Gothic Book"/>
              </a:rPr>
              <a:t>                     </a:t>
            </a:r>
            <a:endParaRPr b="0" lang="en-US" sz="1800" spc="-1" strike="noStrike">
              <a:solidFill>
                <a:srgbClr val="000000"/>
              </a:solidFill>
              <a:latin typeface="Franklin Gothic Book"/>
            </a:endParaRPr>
          </a:p>
        </p:txBody>
      </p:sp>
      <p:sp>
        <p:nvSpPr>
          <p:cNvPr id="244" name="TextBox 5"/>
          <p:cNvSpPr/>
          <p:nvPr/>
        </p:nvSpPr>
        <p:spPr>
          <a:xfrm>
            <a:off x="3192120" y="682560"/>
            <a:ext cx="285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c00000"/>
                </a:solidFill>
                <a:latin typeface="Adobe Gothic Std B"/>
                <a:ea typeface="Adobe Gothic Std B"/>
              </a:rPr>
              <a:t>INFO/ SUMBER RUJUKA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9T02:00:16Z</dcterms:created>
  <dc:creator>noralize</dc:creator>
  <dc:description/>
  <dc:language>en-US</dc:language>
  <cp:lastModifiedBy>noralize</cp:lastModifiedBy>
  <cp:lastPrinted>2016-08-30T04:48:56Z</cp:lastPrinted>
  <dcterms:modified xsi:type="dcterms:W3CDTF">2016-08-30T07:54:20Z</dcterms:modified>
  <cp:revision>47</cp:revision>
  <dc:subject/>
  <dc:title>PowerPoint Presentation</dc:title>
</cp:coreProperties>
</file>