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7A99E-753A-4CBC-8170-1351E5A50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3E09-1050-4803-938B-829B54106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09BCD-03C7-459D-943B-67649B31E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13739-3569-48F2-BC90-8A64DD9F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85960-6F98-4B0D-B7E5-37599606D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AC019-FED3-4C3A-90D4-A39A8C271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4101D-3140-4E5F-B727-3E01CF529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A7AD-82A6-4994-A447-025C38964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7B152-B2A9-4560-ACAF-BF6589B6B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5817C-FE05-4BF6-BDEB-7102FB5F6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EE9EF-2438-4AEF-9CE3-BBD7C4ADA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762D1-E95B-4635-B960-FB47E3F0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7DC22-A909-4B9C-841E-305B56B98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902F3-F81E-4CD6-9123-5D217B82C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6047-A2C8-4A2C-B4EA-60F164A6F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78991-0994-4F24-9215-D208B5DAB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52A81-6DE8-4C23-B6E1-D97F5578E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BB7C6E-5A4A-4E10-847A-E62962B8B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B6447-160D-4380-A653-C5EC7749C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2F1A6-E214-4C58-AF28-8810FEE195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18C19-2AAC-44D8-A45C-98231C3A7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0BB85-3E21-4B8B-AA05-A6D32AD33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3A28-9BFC-4FCC-AEB6-80231CBA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F7C2B-EC3D-449D-AB9E-363E3FB61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7E756-EB72-4CA9-A72A-B1C6B7D2A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D073A-6B60-430B-BE94-B9466D13E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DC0B2-C775-4D09-8D4D-AD81BB365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1FCE2-88F6-4320-B003-5D373EAE2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DA43BA-91AA-45D6-9504-BB89DE509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D3077-64C6-4E78-8401-1A72943B7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0EB4E7-AC9D-4364-88BA-78DDB5F8D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BE7806-ACDF-4CDB-A12F-AE728F666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05B1E-B95E-412D-9FED-89DFBC866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22BB-F0AE-42BF-99F5-019BD6FD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5D909-1234-420B-9509-EEB1444BD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81276-0455-4887-A11E-6C1543B4D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82DB1-A742-413D-B4BF-C7C5169DF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1E5FE-CB7C-4E71-B84B-7C7784DCA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7EF05-2742-4E07-9B90-2F494CF65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95E61-57EA-4EFF-887F-7057700B4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81ABA-3A9F-4291-81A4-049B42849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BA70B-7EA7-431C-A63A-625B86670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AA4F3B-5DD9-4F4E-B0D6-D2750BDE41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D08515-4AFC-4167-9B7C-17FDACFEB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098A-956F-495F-A95D-79EF78F45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BA411-B001-4E1A-810C-DB57597836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79033-3A1C-4BD9-991E-CA90BB032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8FB087-627B-417A-AA00-57819B82D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E5080-6A5C-45F1-A090-67EBB7F87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09655-6513-4DC7-8559-F8C57DF19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AE852-3D9F-4BAC-BC17-1AC8B22E2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5DDCE-7F37-4A89-B898-5823381DD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6F1EA-9C03-4AB1-9EE5-F60AFB349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4BC4D3-FE72-498B-BBDA-35B31E80FE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A08BD7-C8B7-4728-B9DF-C50781DEF6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1880-88FF-4CAB-A154-17FA932B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FBABC8-CBC4-4E62-A165-2FB6054EF0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050F-44F3-4E4F-84B2-7A71E69A5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12B2-9093-4143-9D02-C2E7C7B40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1C13-BF7C-4DE0-B6F1-11659D720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645F-C7C5-4F57-8DB0-3E52E1F8E113}"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936F-5979-45A9-B1FC-A8FE14972F76}"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A5B3-CD38-455D-91EE-E6A6DA3CBA0E}"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9FA3-7B77-49FC-A4AC-F7224FC750EF}" type="slidenum">
              <a:rPr b="0" lang="en-MY"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4311-375C-4695-B42A-44CA37C85CA1}"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1012320" y="1823760"/>
            <a:ext cx="63151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rPr>
              <a:t>CATATAN MINIT MESYUARAT</a:t>
            </a:r>
            <a:br>
              <a:rPr sz="2400"/>
            </a:br>
            <a:r>
              <a:rPr b="1" lang="en-US" sz="2400" spc="-1" strike="noStrike">
                <a:solidFill>
                  <a:srgbClr val="000000"/>
                </a:solidFill>
                <a:latin typeface="Franklin Gothic Medium"/>
              </a:rPr>
              <a:t>MESYUARAT JAWATANKUASA PEPERIKSAAN </a:t>
            </a:r>
            <a:br>
              <a:rPr sz="2400"/>
            </a:br>
            <a:r>
              <a:rPr b="1" lang="en-US" sz="2400" spc="-1" strike="noStrike">
                <a:solidFill>
                  <a:srgbClr val="000000"/>
                </a:solidFill>
                <a:latin typeface="Franklin Gothic Medium"/>
              </a:rPr>
              <a:t>DAN PERSIJILAN</a:t>
            </a:r>
            <a:br>
              <a:rPr sz="2000"/>
            </a:br>
            <a:endParaRPr b="0" lang="en-US" sz="24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Tunga"/>
              </a:rPr>
              <a:t>BILANGAN 2/2016</a:t>
            </a:r>
            <a:br>
              <a:rPr sz="2000"/>
            </a:br>
            <a:endParaRPr b="1" lang="en-US" sz="2000" spc="-1" strike="noStrike">
              <a:solidFill>
                <a:srgbClr val="000000"/>
              </a:solidFill>
              <a:latin typeface="Franklin Gothic Book"/>
            </a:endParaRPr>
          </a:p>
        </p:txBody>
      </p:sp>
      <p:sp>
        <p:nvSpPr>
          <p:cNvPr id="217" name="TextBox 3"/>
          <p:cNvSpPr/>
          <p:nvPr/>
        </p:nvSpPr>
        <p:spPr>
          <a:xfrm>
            <a:off x="3924360" y="5661000"/>
            <a:ext cx="489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Franklin Gothic Book"/>
              </a:rPr>
              <a:t>TEMPAT : ILP KUALA LUMPUR</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Franklin Gothic Book"/>
              </a:rPr>
              <a:t>TARIKH  : 1 &amp; 2 SEPTEMBER 2016</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Franklin Gothic Book"/>
              </a:rPr>
              <a:t>MASA     : 8.00 PAGI HINGGA 5.00 PETANG </a:t>
            </a:r>
            <a:endParaRPr b="0" lang="en-US" sz="1800" spc="-1" strike="noStrike">
              <a:solidFill>
                <a:srgbClr val="000000"/>
              </a:solidFill>
              <a:latin typeface="Franklin Gothic Book"/>
            </a:endParaRPr>
          </a:p>
        </p:txBody>
      </p:sp>
      <p:pic>
        <p:nvPicPr>
          <p:cNvPr id="218" name="Picture 4" descr="logo_final"/>
          <p:cNvPicPr/>
          <p:nvPr/>
        </p:nvPicPr>
        <p:blipFill>
          <a:blip r:embed="rId1"/>
          <a:stretch/>
        </p:blipFill>
        <p:spPr>
          <a:xfrm>
            <a:off x="179280" y="692280"/>
            <a:ext cx="205740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250920" y="333360"/>
          <a:ext cx="8569080" cy="6380280"/>
        </p:xfrm>
        <a:graphic>
          <a:graphicData uri="http://schemas.openxmlformats.org/drawingml/2006/table">
            <a:tbl>
              <a:tblPr/>
              <a:tblGrid>
                <a:gridCol w="928440"/>
                <a:gridCol w="3978360"/>
                <a:gridCol w="1104840"/>
                <a:gridCol w="255744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43178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5.3</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agar penambahbaikan dibuat seperti berikut:</a:t>
                      </a:r>
                      <a:endParaRPr b="0" lang="en-US" sz="1600" spc="-1" strike="noStrike">
                        <a:solidFill>
                          <a:srgbClr val="000000"/>
                        </a:solidFill>
                        <a:latin typeface="Franklin Gothic Book"/>
                      </a:endParaRPr>
                    </a:p>
                    <a:p>
                      <a:pPr lvl="2" marL="92160" indent="-92160" algn="just">
                        <a:lnSpc>
                          <a:spcPct val="115000"/>
                        </a:lnSpc>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Arial"/>
                        </a:rPr>
                        <a:t>  </a:t>
                      </a:r>
                      <a:r>
                        <a:rPr b="0" lang="en-US" sz="1600" spc="-1" strike="noStrike">
                          <a:solidFill>
                            <a:srgbClr val="000000"/>
                          </a:solidFill>
                          <a:latin typeface="Franklin Gothic Book"/>
                          <a:ea typeface="Arial"/>
                        </a:rPr>
                        <a:t>Pelajar perlu membuat latihan overhaul sekurang-kurangnya 2 atau 3 kali supaya mahir dan boleh menyiapkan amali peperiksaan akhir dalam masa yang ditetapkan. </a:t>
                      </a:r>
                      <a:endParaRPr b="0" lang="en-US" sz="1600" spc="-1" strike="noStrike">
                        <a:solidFill>
                          <a:srgbClr val="000000"/>
                        </a:solidFill>
                        <a:latin typeface="Franklin Gothic Book"/>
                      </a:endParaRPr>
                    </a:p>
                    <a:p>
                      <a:pPr lvl="2" marL="92160" indent="-92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Arial"/>
                        </a:rPr>
                        <a:t>b) Ketua Bahagian institut yang peratus kegagalan tinggi perlu membuat tindakan penambahbaikan dan laporkan kepada JK Kepakaran.</a:t>
                      </a:r>
                      <a:endParaRPr b="0" lang="en-US" sz="1600" spc="-1" strike="noStrike">
                        <a:solidFill>
                          <a:srgbClr val="000000"/>
                        </a:solidFill>
                        <a:latin typeface="Franklin Gothic Book"/>
                      </a:endParaRPr>
                    </a:p>
                    <a:p>
                      <a:pPr lvl="2" marL="92160" indent="-92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Arial"/>
                        </a:rPr>
                        <a:t>c) </a:t>
                      </a:r>
                      <a:r>
                        <a:rPr b="0" lang="en-US" sz="1600" spc="-1" strike="noStrike">
                          <a:solidFill>
                            <a:srgbClr val="000000"/>
                          </a:solidFill>
                          <a:latin typeface="Franklin Gothic Book"/>
                          <a:ea typeface="Arial"/>
                        </a:rPr>
                        <a:t>Pengarah institut diminta menyokong penambaikan yang dilaksanakan di peringkat bengkel.</a:t>
                      </a:r>
                      <a:endParaRPr b="0" lang="en-US" sz="1600" spc="-1" strike="noStrike">
                        <a:solidFill>
                          <a:srgbClr val="000000"/>
                        </a:solidFill>
                        <a:latin typeface="Franklin Gothic Book"/>
                      </a:endParaRPr>
                    </a:p>
                    <a:p>
                      <a:pPr lvl="2" marL="92160" indent="-92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marL="182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182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182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18252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rowSpan="2">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Semua pengarah ambil maklum dan telahn diambil tindak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0800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5.5</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PK) memaklumkan peruntukan untuk membaiki peralatan/mesin akan dihantar ke institut dan meyarankan agar institut menyenaraikan kerosakan peralatan mengikut keutamaan untuk diperbaiki.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395280" y="115920"/>
          <a:ext cx="8424720" cy="6099120"/>
        </p:xfrm>
        <a:graphic>
          <a:graphicData uri="http://schemas.openxmlformats.org/drawingml/2006/table">
            <a:tbl>
              <a:tblPr/>
              <a:tblGrid>
                <a:gridCol w="863640"/>
                <a:gridCol w="3960720"/>
                <a:gridCol w="1085760"/>
                <a:gridCol w="25146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19220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5.6</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ncadangkan agar lawatan “benchmark” ke IKM Jasin dibuat untuk mempelajari kaedah penyelenggaraan yang dilaksanakan di institut berkenaan bagi mengurangkan  kos pembaikan.</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P (ILJTM) yang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engarah ambil maklum.</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4196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5.7</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bahawa mesyuarat penyelarasan dengan semua KB Kimpalan ILJTM semenanjung telah dibuat di ADTEC Jerantut bagi menerangkan punca kegagalan WQT dan kaedah untuk mengatasinya. Mesyuarat penyelarasan melibatkan ILJTM Zon Timur akan diadakan di ADTEC Bintulu bagi tujuan yang sama dan juga akan membincangkan perancangan untuk JK membantu pengajar baru di ADTEC Bintulu melaksanakan latihan amali.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K Kepakaran Kimpalan dan P(ILJTM) yang berkena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Mesyuarat penyelarasan bagi ILJTM Zon Timur telah diadakan pada 5 April 2016. Pengajar yang hadir juga turut membuat demonstrasi kaedah mengimpal yang betul kepada pelajar ADTEC Bintulu dan perancangan untuk membantu pengajar baru terutamanya dalam pelaksanaan latihan amali</a:t>
                      </a:r>
                      <a:r>
                        <a:rPr b="0" lang="en-MY" sz="1600" spc="-1" strike="noStrike">
                          <a:solidFill>
                            <a:srgbClr val="000000"/>
                          </a:solidFill>
                          <a:latin typeface="Calibri"/>
                          <a:ea typeface="Calibri"/>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324000" y="115920"/>
          <a:ext cx="8496000" cy="6380280"/>
        </p:xfrm>
        <a:graphic>
          <a:graphicData uri="http://schemas.openxmlformats.org/drawingml/2006/table">
            <a:tbl>
              <a:tblPr/>
              <a:tblGrid>
                <a:gridCol w="871560"/>
                <a:gridCol w="3993840"/>
                <a:gridCol w="1095480"/>
                <a:gridCol w="253512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459756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8</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bahawa Jabatan telah bersetuju dalam Mesyuarat Bersama Jabatan pada tahun lepas untuk membenarkan pegawai membuat tuntutan bayaran memperbaharui lesen welding inspector dimana pegawai perlu membayar terlebih dahulu dan tuntutan dibuat kemudian. JK Kepakaran Kimpalan perlu menyenaraikan senarai nama pengajar yang memiliki persijilan Welding Inspector untuk diangkat bagi kelulusan Ketua Pengarah bagi tujuan tuntutan bayaran memperbaharui lesen tersebut.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K Kepakaran Kimpal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Deraf kertas permohonan kelulusan bagi membayar balik bayaran memperbaharui lesen telah dikemukakan kepada bahagian kewangan JTM. </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51784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9</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maklumkan agar ILJTM mengambil peluang untuk mengikuti kursus-kursus yang ditawarkan secara percuma oleh pihak luar seperti CIDB yang menawarkan kursus percuma untuk Kursus Kimpalan.</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 (ILJTM) berkenaan</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250920" y="115920"/>
          <a:ext cx="8642160" cy="5715000"/>
        </p:xfrm>
        <a:graphic>
          <a:graphicData uri="http://schemas.openxmlformats.org/drawingml/2006/table">
            <a:tbl>
              <a:tblPr/>
              <a:tblGrid>
                <a:gridCol w="863640"/>
                <a:gridCol w="4105080"/>
                <a:gridCol w="1095480"/>
                <a:gridCol w="257796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MINIT MESYUARAT/PERKARA</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TINDAKAN</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STATUS KEMAJUAN/KEPUTUSAN</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8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1</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KKP(KT) memaklumkan pembentangan keputusan peperiksaan akhir oleh jawatankuasa kepakaran hanya perlu melibatkan peperiksaan amali sahaja. Ini kerana empat jawatankuasa membangunkan soalan amali sendiri. Sehubungan itu, pencapaian  pelajar perlu dimaklumkan  dalam mesyuarat untuk melihat sejauh mana pelajar bagi program yang terlibat dapat mencapai standard yang ditetapkan setiap jawatankuasa.</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JK berkenaan</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 dan telah 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678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3</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minta pengarah memantau pelaksanaan kursus Elektrik di institut masing-masing bagi mengelakkan isu seperti di ILP Ipoh berulang.</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Mesyuarat penyelarasan kursus elektrik bagi institut yang mendaftar dengan ST telah diadakan di ILP Ipoh bagi membincangkan isu ini. </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
          <p:cNvGraphicFramePr/>
          <p:nvPr/>
        </p:nvGraphicFramePr>
        <p:xfrm>
          <a:off x="250920" y="318960"/>
          <a:ext cx="8569080" cy="5770800"/>
        </p:xfrm>
        <a:graphic>
          <a:graphicData uri="http://schemas.openxmlformats.org/drawingml/2006/table">
            <a:tbl>
              <a:tblPr/>
              <a:tblGrid>
                <a:gridCol w="912600"/>
                <a:gridCol w="3911760"/>
                <a:gridCol w="1257120"/>
                <a:gridCol w="24876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0409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4</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mencadangkan agar institut menyediakan Buku Akta untuk rujukan semasa peperiksaan dan dikutip semula selepas peperiksaan tamat bagi mengelakkan pelajar menipu di dalam peperiksaan.</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Telah diambil tindak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Walaubagaimanapun terdapat beberapa institut tidak mempunyai peruntukan yang mencukupi bagi menyediakan buku akta tersebut.</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48148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5</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dengan cadangan ILP Kota Samarahan perlu membuat analisa punca kegagalan yang tinggi bagi persijilan G2. Pihak institut perlu mengkaji skrip jawapan pelajar dan mengenalpasti modul-modul yang lemah serta melaksanakan tindakan penambahbaikan.</a:t>
                      </a:r>
                      <a:endParaRPr b="0" lang="en-US" sz="16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ILP Kota Samarahan) dan JK EIU</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Analisa telah dibuat bagi mengenalpasti punca dan penambahbaikanakan dibuat dari semasa ke semasa.</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2" name=""/>
          <p:cNvGraphicFramePr/>
          <p:nvPr/>
        </p:nvGraphicFramePr>
        <p:xfrm>
          <a:off x="250920" y="311040"/>
          <a:ext cx="8713800" cy="5819760"/>
        </p:xfrm>
        <a:graphic>
          <a:graphicData uri="http://schemas.openxmlformats.org/drawingml/2006/table">
            <a:tbl>
              <a:tblPr/>
              <a:tblGrid>
                <a:gridCol w="936360"/>
                <a:gridCol w="4123080"/>
                <a:gridCol w="1123920"/>
                <a:gridCol w="253044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60036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6</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agar Jawatankuasa Peperiksaan dan Persijilan Kekompetenan EIU yang dipengerusikan oleh P(ADTEC Bintulu) diwujudkan bagi mengesahkan soalan, mengesahkan keputusan peperiksaan dan menambahbaik pelaksanaan latihan yang berkaitan dengan persijilan EIU.</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Mesyuarat pertama telah diadakan pada 4 April 2016. Bagi penyediaan soalan EIU untuk sesi 2/2016, jabatan akan mengeluarkan memo pada ADTEC Bintulu untuk selaraskan pembangunan soalan peperiksaan tersebu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9584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8</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ILP Kepala Batas perlu mendaftarkan program-program kompeten Elektrik yang berkaitan dengan Persijilan Kemahiran Malaysia.</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ILP Kepala Batas)</a:t>
                      </a: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Institut dalam proses pentauliahan semula oleh ST untuk PW4 2 tahun. Pendaftaran SKM akan dibuat sejurus mendapat pentauliahan semula tersebut.</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3" name=""/>
          <p:cNvGraphicFramePr/>
          <p:nvPr/>
        </p:nvGraphicFramePr>
        <p:xfrm>
          <a:off x="250920" y="115920"/>
          <a:ext cx="8642160" cy="6380280"/>
        </p:xfrm>
        <a:graphic>
          <a:graphicData uri="http://schemas.openxmlformats.org/drawingml/2006/table">
            <a:tbl>
              <a:tblPr/>
              <a:tblGrid>
                <a:gridCol w="928440"/>
                <a:gridCol w="4089600"/>
                <a:gridCol w="1114200"/>
                <a:gridCol w="250992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2481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19</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minta semua pengarah ILJTM menimbangkan cadangan untuk menawarkan program PW4 untuk tempoh dua tahun bagi memudahkan pelaksanaan peperiksaan akhir amali dan juga penjimatan dari segi kos, masa dan penglibatan pengajar.</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678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6.2</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BKT perlu mengedarkan senarai kredit bagi setiap kursus  untuk rujukan Pegawai Naziran, BKKL dan pengajar di bengkel.</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lesai. Maklumat kredit bagi setiap silibus yang diselaraskan di peringkat Ibu Pejabat boleh disemak dalam laman web JTM.</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01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6.3</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KT akan mengedarkan memo menjelaskan pelaksanaan program PERHEBAT di mana pelajar ini tidak perlu mendaftar dalam SPC.01 kecuali pelajar tersebut sanggup mengikuti syarat-syarat persijilan JTM.</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Telah di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250920" y="115920"/>
          <a:ext cx="8713800" cy="7062840"/>
        </p:xfrm>
        <a:graphic>
          <a:graphicData uri="http://schemas.openxmlformats.org/drawingml/2006/table">
            <a:tbl>
              <a:tblPr/>
              <a:tblGrid>
                <a:gridCol w="936360"/>
                <a:gridCol w="4123080"/>
                <a:gridCol w="1123920"/>
                <a:gridCol w="253044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705204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6.4</a:t>
                      </a:r>
                      <a:endParaRPr b="0" lang="en-US" sz="15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Mesyuarat ambil maklum </a:t>
                      </a:r>
                      <a:r>
                        <a:rPr b="1" lang="en-US" sz="1500" spc="-1" strike="noStrike">
                          <a:solidFill>
                            <a:srgbClr val="000000"/>
                          </a:solidFill>
                          <a:latin typeface="Franklin Gothic Book"/>
                          <a:ea typeface="Calibri"/>
                        </a:rPr>
                        <a:t>institut yang perlu membuat pembetulan pada dokumen persijilan adalah seperti berikut:</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a)  JMTI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b)  ILP Kota Bharu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c)   ILP Kepala Batas - Borang Maklumat Persijilan</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d) ILP Kuala Langat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e)  ILP Labuan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f) ILP Kota Kinabalu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g) ILP Kota Samarahan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h)  ILP Miri - Borang Maklumat Persijilan dan SPC.06</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ea typeface="Calibri"/>
                        </a:rPr>
                        <a:t> </a:t>
                      </a:r>
                      <a:endParaRPr b="0" lang="en-US" sz="15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ea typeface="Calibri"/>
                        </a:rPr>
                        <a:t>Dokumen yang telah dibuat pindaan hendaklah dikemukan ke UPP ibu pejabat dalam tempoh dua minggu daripada tarikh mesyuarat.</a:t>
                      </a:r>
                      <a:endParaRPr b="0" lang="en-US" sz="15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P (ILJTM) berkenaan</a:t>
                      </a: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ea typeface="Calibri"/>
                        </a:rPr>
                        <a:t> </a:t>
                      </a:r>
                      <a:endParaRPr b="0" lang="en-US" sz="15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Franklin Gothic Book"/>
                          <a:ea typeface="Calibri"/>
                        </a:rPr>
                        <a:t>Pengarah berkenaan ambil maklum dan telah ambil tindakan.</a:t>
                      </a:r>
                      <a:endParaRPr b="0" lang="en-US" sz="15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
          <p:cNvGraphicFramePr/>
          <p:nvPr/>
        </p:nvGraphicFramePr>
        <p:xfrm>
          <a:off x="250920" y="492120"/>
          <a:ext cx="8713800" cy="4381560"/>
        </p:xfrm>
        <a:graphic>
          <a:graphicData uri="http://schemas.openxmlformats.org/drawingml/2006/table">
            <a:tbl>
              <a:tblPr/>
              <a:tblGrid>
                <a:gridCol w="772920"/>
                <a:gridCol w="4195800"/>
                <a:gridCol w="1214640"/>
                <a:gridCol w="2530440"/>
              </a:tblGrid>
              <a:tr h="4201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RUJUK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MINIT MESYUARAT/PERKARA</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TINDAK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STATUS KEMAJUAN/KEPUTUS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2226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7.2</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ea typeface="Arial"/>
                        </a:rPr>
                        <a:t>Mesyuarat bersetuju skop dan prosedur permohonan program baharu dan peningkatan tahap ini hanya melibatkan kursus baharu dan peningkatan tahap sahaja tanpa melibatkan kursus-kursus yang diputuskan dalam Program Transformasi Jabatan.</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P (ILJTM) berkena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922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1</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pihak JPK telah memberi kelonggaran di mana borang T1003 boleh ditandatangani oleh timbalan pengarah sekiranya pengarah tiada sewaktu verifikasi dijalankan.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 (ILJTM)</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
          <p:cNvGraphicFramePr/>
          <p:nvPr/>
        </p:nvGraphicFramePr>
        <p:xfrm>
          <a:off x="250920" y="115920"/>
          <a:ext cx="8642160" cy="6624720"/>
        </p:xfrm>
        <a:graphic>
          <a:graphicData uri="http://schemas.openxmlformats.org/drawingml/2006/table">
            <a:tbl>
              <a:tblPr/>
              <a:tblGrid>
                <a:gridCol w="863640"/>
                <a:gridCol w="4178160"/>
                <a:gridCol w="1090440"/>
                <a:gridCol w="250992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636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8.2</a:t>
                      </a:r>
                      <a:endParaRPr b="0" lang="en-US" sz="14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Mesyuarat ambil maklum keputusan penawaran program DTK telah diputuskan dalam Mesyuarat Penyelarasan Program Dua Aliran pada 28 Januari 2016 seperti berikut:</a:t>
                      </a:r>
                      <a:endParaRPr b="0" lang="en-US" sz="14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a) JMTI menawarkan program Diploma Teknologi Kejuruteraan.</a:t>
                      </a:r>
                      <a:endParaRPr b="0" lang="en-US" sz="14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b) ADTEC Shah Alam, ADTEC Batu Pahat, ADTEC Taiping dan ADTEC Kulim akan menawarkan program Diploma Teknologi Kejuruteraan dan Diploma Teknologi Perindustrian.</a:t>
                      </a:r>
                      <a:endParaRPr b="0" lang="en-US" sz="14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c) ADTEC Kemaman menawarkan program Diploma Teknologi Kejuruteraan dan Diploma Teknologi Perindustrian bagi kursus Teknologi Kimpalan, Teknologi Elektrik, Teknologi Instrumentasi, Teknologi Automotif, Teknologi Penyenggaraan Mekanikal dan Teknologi Penyelenggaraan Bangunan dan Fasiliti. Bagi kursus Teknologi Binaan (Sivil dan Stuktur) dan Teknologi Penyejukbekuan dan Penyamanan Udara hanya akan ditawarkan untuk program Diploma Teknologi Perindustrian sahaja. </a:t>
                      </a:r>
                      <a:endParaRPr b="0" lang="en-US" sz="14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d) ADTEC Bintulu, ADTEC Jerantut dan ADTEC Melaka akan menawarkan program Diploma Teknologi Perindustrian bagi semua kursus. Tiada penawaran bagi program Diploma Teknologi Kejuruteraan bermula Januari 2017.</a:t>
                      </a:r>
                      <a:endParaRPr b="0" lang="en-US" sz="14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P(JMTI) dan Semua P(ADTEC)</a:t>
                      </a:r>
                      <a:endParaRPr b="0" lang="en-US" sz="14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emua pengarah ambil maklum dan telah ambil tindak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324000"/>
          <a:ext cx="8642160" cy="4908240"/>
        </p:xfrm>
        <a:graphic>
          <a:graphicData uri="http://schemas.openxmlformats.org/drawingml/2006/table">
            <a:tbl>
              <a:tblPr/>
              <a:tblGrid>
                <a:gridCol w="865080"/>
                <a:gridCol w="3805200"/>
                <a:gridCol w="835200"/>
                <a:gridCol w="313668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MINIT MESYUARAT/PERKARA</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TINDAKAN</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STATUS KEMAJUAN/KEPUTUSAN</a:t>
                      </a:r>
                      <a:endParaRPr b="0" lang="en-US" sz="12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1922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2</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bahawa JPK</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elah memutuskan supaya JTM </a:t>
                      </a: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mbuat permohonan pengecualian kelulusan pengiklanan kepada Ketua Pengarah JPK. </a:t>
                      </a: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PL)</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rmohonan pengecualian kelulusan pengiklanan tidak dipohon bagi tahun ini memandangkan tiada peruntukan bagi iklan kemasu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76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4</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memutuskan borang permohonan berhenti perlu diselaraskan dan  kenal pasti soalan yang perlu ditanya dalam borang tersebut. Laporan statistik  dan analisa punca pelajar berhenti perlu dibentangkan dalam mesyuarat berdasarkan maklumbalas pelajar.</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PL) d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P(PP)</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Borang permohonan berhenti telah dibangunkan dan diberikan kepada BPP untuk tindakan selanjutnya.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250920" y="355680"/>
          <a:ext cx="8642160" cy="4135320"/>
        </p:xfrm>
        <a:graphic>
          <a:graphicData uri="http://schemas.openxmlformats.org/drawingml/2006/table">
            <a:tbl>
              <a:tblPr/>
              <a:tblGrid>
                <a:gridCol w="863640"/>
                <a:gridCol w="4178160"/>
                <a:gridCol w="1090440"/>
                <a:gridCol w="250992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2201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3</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DTEC dan ILP yang akan menghentikan penawaran program Diploma Teknologi Kejuruteraan masih perlu meneruskan permohonan pentauliahan dengan MQA memandangkan pelajar sedia ada telah ditawarkan dengan persijilan tersebut.</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 (ADTEC) dan P(ILP) berkenaan</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berkenaan ambil maklum dan telah 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642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4</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juga meminta supaya JMTI dan ADTEC meningkat usaha untuk meningkatkan pengambilan pelajar bagi program DTK.</a:t>
                      </a:r>
                      <a:endParaRPr b="0" lang="en-US" sz="1600" spc="-1" strike="noStrike">
                        <a:solidFill>
                          <a:srgbClr val="000000"/>
                        </a:solidFill>
                        <a:latin typeface="Franklin Gothic Book"/>
                      </a:endParaRPr>
                    </a:p>
                    <a:p>
                      <a:pPr algn="just">
                        <a:lnSpc>
                          <a:spcPct val="115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 (ADTEC) dan P(JMTI)</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berkenaan ambil maklum dan telah 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250920" y="355680"/>
          <a:ext cx="8642160" cy="5817960"/>
        </p:xfrm>
        <a:graphic>
          <a:graphicData uri="http://schemas.openxmlformats.org/drawingml/2006/table">
            <a:tbl>
              <a:tblPr/>
              <a:tblGrid>
                <a:gridCol w="863640"/>
                <a:gridCol w="4178160"/>
                <a:gridCol w="1090440"/>
                <a:gridCol w="250992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357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6</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memohon ADTEC dan JMTI supaya membuat ketetapan untuk melaksanakan program Diploma Single Tier yang mempunyai exit policy atau tidak. Ini kerana JPK meminta supaya JTM memohon kelulusan pelaksanaan Single Tier bagi semua kursus yang ditawarkan di ADTEC dan JMTI.</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ADTEC) dan P(JMTI)</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BKT dalam proses mengumpul semua maklumat pentauliahan program Diploma di ADTEC bagi tujuan permohonan program Single Tier. Status Single Tier with Exit Point atau tidak adalah bergantung pada pemetaan antara NOSS dengan silibus yang dibangunkan. </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2381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8</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nyarankan agar ADTEC berkomunikasi dengan ILP yang akan menyalurkan pelajar bagi program Diploma Integrasi kursus yang berkenaan untuk melancarkan proses pengambilan pelajar.</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 berkenaan</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berkenaan ambil maklum dan telah 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250920" y="291960"/>
          <a:ext cx="8569080" cy="5819760"/>
        </p:xfrm>
        <a:graphic>
          <a:graphicData uri="http://schemas.openxmlformats.org/drawingml/2006/table">
            <a:tbl>
              <a:tblPr/>
              <a:tblGrid>
                <a:gridCol w="863640"/>
                <a:gridCol w="4176720"/>
                <a:gridCol w="1041120"/>
                <a:gridCol w="24876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180036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9</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ngingatkan semua ILJTM agar mengemaskini pendaftaran harta modal dan inventori stok serta memastikan pusingan stok dipantau dengan lebih baik.</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3598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10</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ngerusi meminta semua pengarah memantau perkhidmatan yang diberikan oleh kontraktor perkhidmatan di institut masing-masing dan mengenakan denda jika perkhidmatan yang diberikan tidak memenuhi spesifikasi yang ditetapkan di dalam kontrak.</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ILJTM)</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20176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8.11</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ambil maklum ILP boleh menawarkan program hingga Tahap 4 sekiranya kursus tersebut tidak dilaksanakan ADTEC atau kapasiti di ADTEC tidak boleh menampung permintaan bagi kursus berkenaan.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400" rIns="68400" tIns="0" bIns="0" anchor="t">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 (ILP)</a:t>
                      </a:r>
                      <a:endParaRPr b="0" lang="en-US" sz="1600" spc="-1" strike="noStrike">
                        <a:solidFill>
                          <a:srgbClr val="000000"/>
                        </a:solidFill>
                        <a:latin typeface="Franklin Gothic Book"/>
                      </a:endParaRPr>
                    </a:p>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Pengarah ambil maklum dan telah 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0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52360" y="339840"/>
          <a:ext cx="8640720" cy="4313160"/>
        </p:xfrm>
        <a:graphic>
          <a:graphicData uri="http://schemas.openxmlformats.org/drawingml/2006/table">
            <a:tbl>
              <a:tblPr/>
              <a:tblGrid>
                <a:gridCol w="863640"/>
                <a:gridCol w="3805200"/>
                <a:gridCol w="947880"/>
                <a:gridCol w="30240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25178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5</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mencadangkan pembentangan statistik pelajar yang tidak layak dipersijilkan perlu diasingkan bagi kriteria berhenti dan diberhentikan. Selain daripada itu, bilangan pelajar yang mendaftar dan tempoh pelajar berhenti perlu dimasukkan di dalam statistik tersebut.</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PL) dan P(KT)</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rowSpan="2">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ea typeface="Calibri"/>
                        </a:rPr>
                        <a:t>Statistik pelajar yang tidak layak dipersijilkan bagi keluaran 1/2016 akan dibentangkan mengikut format yang dicadangkan dalam MJPP Bil 2/2016 </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95840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6</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ambil maklum pembentangan statistik pelajar yang tidak layak dipersijilkan pada mesyuarat akan datang adalah termasuk sesi keluaran yang terlibat dalam pembentangan keputusan persijil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324000" y="9360"/>
          <a:ext cx="8569080" cy="7020000"/>
        </p:xfrm>
        <a:graphic>
          <a:graphicData uri="http://schemas.openxmlformats.org/drawingml/2006/table">
            <a:tbl>
              <a:tblPr/>
              <a:tblGrid>
                <a:gridCol w="857160"/>
                <a:gridCol w="3773520"/>
                <a:gridCol w="1082520"/>
                <a:gridCol w="285588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25178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8</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urusetia atau setiausaha Jawatankuasa Kepakaran perlu memainkan peranan supaya maklumat dan keputusan mesyuarat jawatankuasa dapat dimaklumkan kepada institut yang berkenaan. Minit mesyuarat perlu diedarkan untuk makluman dan tindakan setiap institut.</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engerusi JK Kepakar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Semua Pengerusi JK Kepakaran  dan urusetia peringkat HQ ambil maklum mengenai perkara ini. </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401220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0</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bilangan ahli setiap JK Kepakaran tidak perlu terlalu ramai bagi memastikan objektif jawatankuasa dan pelaksanaan mesyuarat berjalan dengan lancar. Pengerusi Jawatankuasa Kepakaran boleh menyenaraikan senarai baru bagi ahli Jawatankuasa Kepakaran masing-masing kepada KPP(KT) bagi tujuan lantikan semula untuk tahun 2016 hingga 2017.</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emua Pengerusi JK Kepakar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Hanya tiga jawatankuasa telah mengemukakan senarai baru bagi tujuan lantikan. </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
          <p:cNvGraphicFramePr/>
          <p:nvPr/>
        </p:nvGraphicFramePr>
        <p:xfrm>
          <a:off x="324000" y="44280"/>
          <a:ext cx="8569080" cy="6669360"/>
        </p:xfrm>
        <a:graphic>
          <a:graphicData uri="http://schemas.openxmlformats.org/drawingml/2006/table">
            <a:tbl>
              <a:tblPr/>
              <a:tblGrid>
                <a:gridCol w="863280"/>
                <a:gridCol w="3600720"/>
                <a:gridCol w="1081080"/>
                <a:gridCol w="30240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MINIT MESYUARAT/PERKARA</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TINDAK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STATUS KEMAJUAN/KEPUTUS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7609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1</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pelajar yang memasuki program Teknologi Elektrik dengan kelayakan B19 perlu mendaftar dalam TMS dengan menggunakan kod tersebut. Bagi tujuan pendaftaran modul, pihak institut perlu merujuk kepada kod modul dalam silibus B01.</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ILJTM)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Bagi tujuan penambahbaikan dan mengelakkan kekeliruan pengajar, Unit Kurikulum akan sediakan kod modul berdasarkan B19 bagi kumpulan pelajar tersebut.</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4184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2</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ambil maklum mana-mana institut yang hendak menawarkan  program PW4 untuk tempoh dua tahun boleh memohon kepada ST dan perlu melalui Ibu pejabat.</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ILJTM)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Jabatan menerima dua permohonan iaitu dari ILP Ipoh dan ILP Kuala Terengganu. Semua permohonan telah dihantar ke ST. bagi tujuan penilaian. </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
          <p:cNvGraphicFramePr/>
          <p:nvPr/>
        </p:nvGraphicFramePr>
        <p:xfrm>
          <a:off x="250920" y="463680"/>
          <a:ext cx="8642160" cy="5995800"/>
        </p:xfrm>
        <a:graphic>
          <a:graphicData uri="http://schemas.openxmlformats.org/drawingml/2006/table">
            <a:tbl>
              <a:tblPr/>
              <a:tblGrid>
                <a:gridCol w="863640"/>
                <a:gridCol w="3806640"/>
                <a:gridCol w="947880"/>
                <a:gridCol w="302400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3320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6</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BKT merancang untuk menyelesaikan pemetaan semua silibus dalam tempoh tiga tahun bagi memastikan tiada isu berkaitan silibus dan WIM semasa proses permohonan pentauliahan program di institut. Sekiranya silibus JTM diiktiraf setara dengan NOSS, panel tidak boleh mempertikaikan format WIM yang dibangunkan oleh jabatan.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Bengkel pemetaan silibus mengikut panduan JPK telah dijalankan bagi 9 kursus (program sijil : 7, proram Diploma :2). Pemetaan yang telah selesai pada tahun ini akan dihantar ke JPK bagi tujuan penyetaraan.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4814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7</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JTM akan hantar surat makluman kepada Ketua Pengarah JPK memaklumkan ILJTM akan mempraktikkan perkongsian peralatan sesama institut bagi memastikan latihan dapat dijalankan mengikut keperluan NOSS.</a:t>
                      </a:r>
                      <a:endParaRPr b="0" lang="en-US" sz="1600" spc="-1" strike="noStrike">
                        <a:solidFill>
                          <a:srgbClr val="000000"/>
                        </a:solidFill>
                        <a:latin typeface="Franklin Gothic Book"/>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Telah di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324000" y="379440"/>
          <a:ext cx="8569080" cy="3575160"/>
        </p:xfrm>
        <a:graphic>
          <a:graphicData uri="http://schemas.openxmlformats.org/drawingml/2006/table">
            <a:tbl>
              <a:tblPr/>
              <a:tblGrid>
                <a:gridCol w="863280"/>
                <a:gridCol w="4176720"/>
                <a:gridCol w="1081080"/>
                <a:gridCol w="244800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19220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8</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turut bersetuju jabatan akan hantar surat bantahan kepada JPK berkaitan beberapa panel yang dilantik oleh jabatan tersebut bagi proses pentauliahan program.</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Belum diambil tindakan.</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1398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19</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KPP(KT) memaklumkan tiada halangan dengan cadangan untuk mewujudkan kod kursus khas untuk program Teknologi Kimpalan di ILP Anjung  Muadzam Shah</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t">
                      <a:noAutofit/>
                    </a:bodyPr>
                    <a:p>
                      <a:pPr marL="182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KPP(KT) dan Pusat Data TMS</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Selesai.</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Kod khas untuk kursus Kimpalan di ILP Anjung Muadzam ialah A08-M</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 name=""/>
          <p:cNvGraphicFramePr/>
          <p:nvPr/>
        </p:nvGraphicFramePr>
        <p:xfrm>
          <a:off x="108000" y="298440"/>
          <a:ext cx="8928000" cy="5435640"/>
        </p:xfrm>
        <a:graphic>
          <a:graphicData uri="http://schemas.openxmlformats.org/drawingml/2006/table">
            <a:tbl>
              <a:tblPr/>
              <a:tblGrid>
                <a:gridCol w="863640"/>
                <a:gridCol w="4248000"/>
                <a:gridCol w="1152720"/>
                <a:gridCol w="2663640"/>
              </a:tblGrid>
              <a:tr h="4899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MINIT MESYUARAT/PERKARA</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TINDAK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STATUS KEMAJUAN/KEPUTUSAN</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53150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3.20</a:t>
                      </a: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bersetuju dengan cadangan penyelesaian bagi pendaftaran SKM untuk program di ILP Anjung Muadzam Shah seperti berikut:</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rogram Automotif akan mendaftar bagi Tahap 2 di ILP Kuantan. Manakala pendaftaran Tahap 3 akan dibuat di institut yang menerima pelajar berkenaan. ILP Anjung Muadzam Shah akan melaksanakan latihan sebagaimana yang dicadangkan oleh Unit Kurikulum seperti di Lampiran 3 Program Kimpalan akan mendaftar Tahap 3 di ILP Kuantan. Sekiranya pelajar dipindahkan ke ILP lain, pihak ILP Kuantan perlu membatalkan pendaftaran SKM dan mendaftar semula pelajar tersebut di institut yang menerima.</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P(ILP Kuantan dan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P (ILJTM) berkenaan</a:t>
                      </a:r>
                      <a:endParaRPr b="0" lang="en-US" sz="16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400" rIns="6840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Telah diambil tindakan.</a:t>
                      </a:r>
                      <a:br>
                        <a:rPr sz="1600"/>
                      </a:br>
                      <a:br>
                        <a:rPr sz="1600"/>
                      </a:br>
                      <a:r>
                        <a:rPr b="0" lang="en-MY" sz="1600" spc="-1" strike="noStrike">
                          <a:solidFill>
                            <a:srgbClr val="000000"/>
                          </a:solidFill>
                          <a:latin typeface="Calibri"/>
                          <a:ea typeface="Calibri"/>
                        </a:rPr>
                        <a:t>Bagi penilaian berasaskan CGPA, jabatan telah bersetuju keputusan pelajar bagi Sem 3 – sem 5 tidak mempunyai kesinambungan  dan akan bermula dari awal. </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Keputusan ini mengambilkira kesulitan untuk UPP di ILP yang menerima pelajar tersebut untuk memproses keputusan pelajar bermula dari sem 1. </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50920" y="492120"/>
          <a:ext cx="8642160" cy="4557600"/>
        </p:xfrm>
        <a:graphic>
          <a:graphicData uri="http://schemas.openxmlformats.org/drawingml/2006/table">
            <a:tbl>
              <a:tblPr/>
              <a:tblGrid>
                <a:gridCol w="936360"/>
                <a:gridCol w="4011840"/>
                <a:gridCol w="1116000"/>
                <a:gridCol w="2577960"/>
              </a:tblGrid>
              <a:tr h="489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RUJU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MINIT MESYUARAT/PERKARA</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TINDAK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rPr>
                        <a:t>STATUS KEMAJUAN/KEPUTUSAN</a:t>
                      </a:r>
                      <a:endParaRPr b="0" lang="en-US" sz="14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8a1d9"/>
                    </a:solidFill>
                  </a:tcPr>
                </a:tc>
              </a:tr>
              <a:tr h="1885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4.3</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Unit Kurikulum akan menyemak semula silibus bagi kursus Kimpalan bagi memastikan isu berkenaan carta aliran dan carta perbandingan dapat diselesaikan. </a:t>
                      </a:r>
                      <a:endParaRPr b="0" lang="en-US" sz="16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t">
                      <a:noAutofit/>
                    </a:bodyPr>
                    <a:p>
                      <a:pPr marL="457200" indent="-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indent="-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457200" indent="-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Pengerusi JK berkenaan</a:t>
                      </a:r>
                      <a:endParaRPr b="0" lang="en-US" sz="14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Kurikulum telah disemak dan dibuat pindaan semula.</a:t>
                      </a: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e0f1"/>
                    </a:solidFill>
                  </a:tcPr>
                </a:tc>
              </a:tr>
              <a:tr h="276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Franklin Gothic Book"/>
                        </a:rPr>
                        <a:t>4.4</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esyuarat dimaklumkan arahan untuk menggunakan fungsi ‘Withdraw Not Complete’ telah dimaklumkan pada tahun lepas dan kemungkinan pemahaman dan pelaksanaan tidak menyeluruh. BKT akan keluarkan memo bagi menjelaskan fungsi  ‘Withdraw Not Complete’ ini.</a:t>
                      </a:r>
                      <a:endParaRPr b="0" lang="en-US" sz="1600" spc="-1" strike="noStrike">
                        <a:solidFill>
                          <a:srgbClr val="000000"/>
                        </a:solidFill>
                        <a:latin typeface="Franklin Gothic Book"/>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KT)</a:t>
                      </a:r>
                      <a:endParaRPr b="0" lang="en-US" sz="16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Calibri"/>
                          <a:ea typeface="Calibri"/>
                        </a:rPr>
                        <a:t>Telah diambil tindakan.</a:t>
                      </a:r>
                      <a:endParaRPr b="0" lang="en-US" sz="16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2T08:28:32Z</dcterms:created>
  <dc:creator>noralize</dc:creator>
  <dc:description/>
  <dc:language>en-US</dc:language>
  <cp:lastModifiedBy>noralize</cp:lastModifiedBy>
  <cp:lastPrinted>2016-08-30T04:12:49Z</cp:lastPrinted>
  <dcterms:modified xsi:type="dcterms:W3CDTF">2016-08-30T09:15:28Z</dcterms:modified>
  <cp:revision>68</cp:revision>
  <dc:subject/>
  <dc:title>PowerPoint Presentation</dc:title>
</cp:coreProperties>
</file>