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EAC-BE08-4840-844C-8CE14642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0C6-DE4F-49F2-B253-482F1B35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8B4-BF2A-45E8-99F2-2702B0E6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5EF-96F5-4BBE-AE4C-47501103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AD8-D598-4D1C-8C98-2711703C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7C7-C5E3-4B36-A75C-CA53FE28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8FC-4198-4EC9-BFCE-A92C27A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2EE-883A-450F-8723-5687346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DCF-DF5F-40A7-9234-F1075E59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A8E-8FBF-4166-928B-27AB8C6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BA0-F25F-4E54-94A1-4319E6A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A29-BFDB-4949-8214-D1CD8E1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DF0E-BD22-46D4-9841-8B65990307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7DA-055B-4EB0-9AEB-D9099E6F29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borang%20ppl%20cross%20check%20ppu/Cross%20Check%20adtec%20kemaman.pdf" TargetMode="External"/><Relationship Id="rId3" Type="http://schemas.openxmlformats.org/officeDocument/2006/relationships/hyperlink" Target="file:///borang%20ppl%20cross%20check%20ppu/Cross%20Check%20adtec%20kemaman.pdf" TargetMode="External"/><Relationship Id="rId4" Type="http://schemas.openxmlformats.org/officeDocument/2006/relationships/hyperlink" Target="file:///borang%20ppl%20cross%20check%20ppu/Cross%20Check%20adtec%20kemaman%202.pdf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borang%20ppl%20cross%20check%20ppu/Cross%20Check%20adtec%20shah%20alam.pdf" TargetMode="External"/><Relationship Id="rId2" Type="http://schemas.openxmlformats.org/officeDocument/2006/relationships/hyperlink" Target="file:///borang%20ppl%20cross%20check%20ppu/Cross%20Check%20adtec%20kemaman.pdf" TargetMode="External"/><Relationship Id="rId3" Type="http://schemas.openxmlformats.org/officeDocument/2006/relationships/hyperlink" Target="file:///borang%20ppl%20cross%20check%20ppu/Cross%20Check%20adtec%20bintulu.pdf" TargetMode="External"/><Relationship Id="rId4" Type="http://schemas.openxmlformats.org/officeDocument/2006/relationships/hyperlink" Target="file:///borang%20ppl%20cross%20check%20ppu/Cross%20Check%20ILP%20JITRA.pdf" TargetMode="External"/><Relationship Id="rId5" Type="http://schemas.openxmlformats.org/officeDocument/2006/relationships/hyperlink" Target="file:///borang%20ppl%20cross%20check%20ppu/Cross%20Check%20ILP%20KEPALA%20BATAS.pdf" TargetMode="External"/><Relationship Id="rId6" Type="http://schemas.openxmlformats.org/officeDocument/2006/relationships/hyperlink" Target="file:///borang%20ppl%20cross%20check%20ppu/Cross%20Check%20ILP%20IPOH.pdf" TargetMode="External"/><Relationship Id="rId7" Type="http://schemas.openxmlformats.org/officeDocument/2006/relationships/hyperlink" Target="file:///borang%20ppl%20cross%20check%20ppu/Cross%20Check%20KUALA%20LUMPUR.pdf" TargetMode="External"/><Relationship Id="rId8" Type="http://schemas.openxmlformats.org/officeDocument/2006/relationships/hyperlink" Target="file:///borang%20ppl%20cross%20check%20ppu/Cross%20Check%20ILP%20MERSING.pdf" TargetMode="External"/><Relationship Id="rId9" Type="http://schemas.openxmlformats.org/officeDocument/2006/relationships/hyperlink" Target="file:///borang%20ppl%20cross%20check%20ppu/Cross%20Check%20ILP%20KUALA%20TERENGGANU.pdf" TargetMode="External"/><Relationship Id="rId10" Type="http://schemas.openxmlformats.org/officeDocument/2006/relationships/hyperlink" Target="file:///borang%20ppl%20cross%20check%20ppu/Cross%20Check%20ILP%20KOTA%20BHARU.pdf" TargetMode="External"/><Relationship Id="rId11" Type="http://schemas.openxmlformats.org/officeDocument/2006/relationships/hyperlink" Target="file:///borang%20ppl%20cross%20check%20ppu/Cross%20Check%20ILP%20LABUAN.pdf" TargetMode="External"/><Relationship Id="rId12" Type="http://schemas.openxmlformats.org/officeDocument/2006/relationships/hyperlink" Target="file:///borang%20ppl%20cross%20check%20ppu/Cross%20Check%20ILP%20SANDAKAN.pdf" TargetMode="External"/><Relationship Id="rId13" Type="http://schemas.openxmlformats.org/officeDocument/2006/relationships/hyperlink" Target="file:///borang%20ppl%20cross%20check%20ppu/Cross%20Check%20ILP%20MIRI.pdf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orang%20ppl%20cross%20check%20ppu/Cross%20Check%20adtec%20shah%20alam.pdf" TargetMode="External"/><Relationship Id="rId2" Type="http://schemas.openxmlformats.org/officeDocument/2006/relationships/hyperlink" Target="file:///borang%20ppl%20cross%20check%20ppu/Cross%20Check%20adtec%20kemaman.pdf" TargetMode="External"/><Relationship Id="rId3" Type="http://schemas.openxmlformats.org/officeDocument/2006/relationships/hyperlink" Target="file:///borang%20ppl%20cross%20check%20ppu/Cross%20Check%20adtec%20bintulu.pdf" TargetMode="External"/><Relationship Id="rId4" Type="http://schemas.openxmlformats.org/officeDocument/2006/relationships/hyperlink" Target="file:///borang%20ppl%20cross%20check%20ppu/Cross%20Check%20ILP%20JITRA.pdf" TargetMode="External"/><Relationship Id="rId5" Type="http://schemas.openxmlformats.org/officeDocument/2006/relationships/hyperlink" Target="file:///borang%20ppl%20cross%20check%20ppu/Cross%20Check%20ILP%20KEPALA%20BATAS.pdf" TargetMode="External"/><Relationship Id="rId6" Type="http://schemas.openxmlformats.org/officeDocument/2006/relationships/hyperlink" Target="file:///borang%20ppl%20cross%20check%20ppu/Cross%20Check%20ILP%20IPOH.pdf" TargetMode="External"/><Relationship Id="rId7" Type="http://schemas.openxmlformats.org/officeDocument/2006/relationships/hyperlink" Target="file:///borang%20ppl%20cross%20check%20ppu/Cross%20Check%20KUALA%20LUMPUR.pdf" TargetMode="External"/><Relationship Id="rId8" Type="http://schemas.openxmlformats.org/officeDocument/2006/relationships/hyperlink" Target="file:///borang%20ppl%20cross%20check%20ppu/Cross%20Check%20ILP%20MERSING.pdf" TargetMode="External"/><Relationship Id="rId9" Type="http://schemas.openxmlformats.org/officeDocument/2006/relationships/hyperlink" Target="file:///borang%20ppl%20cross%20check%20ppu/Cross%20Check%20ILP%20KUALA%20TERENGGANU.pdf" TargetMode="External"/><Relationship Id="rId10" Type="http://schemas.openxmlformats.org/officeDocument/2006/relationships/hyperlink" Target="file:///borang%20ppl%20cross%20check%20ppu/Cross%20Check%20ILP%20KOTA%20BHARU.pdf" TargetMode="External"/><Relationship Id="rId11" Type="http://schemas.openxmlformats.org/officeDocument/2006/relationships/hyperlink" Target="file:///borang%20ppl%20cross%20check%20ppu/Cross%20Check%20ILP%20LABUAN.pdf" TargetMode="External"/><Relationship Id="rId12" Type="http://schemas.openxmlformats.org/officeDocument/2006/relationships/hyperlink" Target="file:///borang%20ppl%20cross%20check%20ppu/Cross%20Check%20ILP%20SANDAKAN.pdf" TargetMode="External"/><Relationship Id="rId13" Type="http://schemas.openxmlformats.org/officeDocument/2006/relationships/hyperlink" Target="file:///borang%20ppl%20cross%20check%20ppu/Cross%20Check%20ILP%20MIRI.pdf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borang%20ppl%20cross%20check%20ppu/Cross%20Check%20adtec%20shah%20alam.pdf" TargetMode="External"/><Relationship Id="rId2" Type="http://schemas.openxmlformats.org/officeDocument/2006/relationships/hyperlink" Target="file:///borang%20ppl%20cross%20check%20ppu/Cross%20Check%20adtec%20kemaman.pdf" TargetMode="External"/><Relationship Id="rId3" Type="http://schemas.openxmlformats.org/officeDocument/2006/relationships/hyperlink" Target="file:///borang%20ppl%20cross%20check%20ppu/Cross%20Check%20adtec%20bintulu.pdf" TargetMode="External"/><Relationship Id="rId4" Type="http://schemas.openxmlformats.org/officeDocument/2006/relationships/hyperlink" Target="file:///borang%20ppl%20cross%20check%20ppu/Cross%20Check%20ILP%20JITRA.pdf" TargetMode="External"/><Relationship Id="rId5" Type="http://schemas.openxmlformats.org/officeDocument/2006/relationships/hyperlink" Target="file:///borang%20ppl%20cross%20check%20ppu/Cross%20Check%20ILP%20KEPALA%20BATAS.pdf" TargetMode="External"/><Relationship Id="rId6" Type="http://schemas.openxmlformats.org/officeDocument/2006/relationships/hyperlink" Target="file:///borang%20ppl%20cross%20check%20ppu/Cross%20Check%20ILP%20IPOH.pdf" TargetMode="External"/><Relationship Id="rId7" Type="http://schemas.openxmlformats.org/officeDocument/2006/relationships/hyperlink" Target="file:///borang%20ppl%20cross%20check%20ppu/Cross%20Check%20KUALA%20LUMPUR.pdf" TargetMode="External"/><Relationship Id="rId8" Type="http://schemas.openxmlformats.org/officeDocument/2006/relationships/hyperlink" Target="file:///borang%20ppl%20cross%20check%20ppu/Cross%20Check%20ILP%20MERSING.pdf" TargetMode="External"/><Relationship Id="rId9" Type="http://schemas.openxmlformats.org/officeDocument/2006/relationships/hyperlink" Target="file:///borang%20ppl%20cross%20check%20ppu/Cross%20Check%20ILP%20KUALA%20TERENGGANU.pdf" TargetMode="External"/><Relationship Id="rId10" Type="http://schemas.openxmlformats.org/officeDocument/2006/relationships/hyperlink" Target="file:///borang%20ppl%20cross%20check%20ppu/Cross%20Check%20ILP%20KOTA%20BHARU.pdf" TargetMode="External"/><Relationship Id="rId11" Type="http://schemas.openxmlformats.org/officeDocument/2006/relationships/hyperlink" Target="file:///borang%20ppl%20cross%20check%20ppu/Cross%20Check%20ILP%20LABUAN.pdf" TargetMode="External"/><Relationship Id="rId12" Type="http://schemas.openxmlformats.org/officeDocument/2006/relationships/hyperlink" Target="file:///borang%20ppl%20cross%20check%20ppu/Cross%20Check%20ILP%20SANDAKAN.pdf" TargetMode="External"/><Relationship Id="rId13" Type="http://schemas.openxmlformats.org/officeDocument/2006/relationships/hyperlink" Target="file:///borang%20ppl%20cross%20check%20ppu/Cross%20Check%20ILP%20MIRI.pdf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RRAFIDAH\BKKL\ADTEC SLAID\logo_jtm2.JPG"/>
          <p:cNvPicPr/>
          <p:nvPr/>
        </p:nvPicPr>
        <p:blipFill>
          <a:blip r:embed="rId1"/>
          <a:stretch/>
        </p:blipFill>
        <p:spPr>
          <a:xfrm>
            <a:off x="7651800" y="228600"/>
            <a:ext cx="1263600" cy="762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5516_600735623276689_276522008_n.jpg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1"/>
          <p:cNvSpPr/>
          <p:nvPr/>
        </p:nvSpPr>
        <p:spPr>
          <a:xfrm>
            <a:off x="0" y="285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gency FB"/>
              </a:rPr>
              <a:t>J/K KEPAKARAN TEKNOLOGI PENYEJUKBEKUAN DAN PENYAMANAN 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02564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3"/>
          <p:cNvSpPr/>
          <p:nvPr/>
        </p:nvSpPr>
        <p:spPr>
          <a:xfrm>
            <a:off x="0" y="1238400"/>
            <a:ext cx="914400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LAPORAN </a:t>
            </a:r>
            <a:r>
              <a:rPr b="0" i="1" lang="en-US" sz="3200" spc="-1" strike="noStrike">
                <a:solidFill>
                  <a:srgbClr val="1f497d"/>
                </a:solidFill>
                <a:latin typeface="Arial Black"/>
              </a:rPr>
              <a:t>CROSS CHECK </a:t>
            </a: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AM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BIDANG TEKNOLOGI PENYEJUKBEKUAN &amp; PENYAMANAN UD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SESI 1/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533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JABATAN TENAGA MAN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R U M U S A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5"/>
          <p:cNvSpPr/>
          <p:nvPr/>
        </p:nvSpPr>
        <p:spPr>
          <a:xfrm>
            <a:off x="304920" y="1143000"/>
            <a:ext cx="8504280" cy="533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puter perlu mencukupi bagi memastikan nisbah ideal 1: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latihan A/C perlu mencukupi untuk memastikan nisbah ideal 1:3 dikekalkan bagi keberkesanan latihan tidak terjej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astikan Pengajar mempunyai sijil mengajar untuk menghasilkan kualiti Kertas Penilaian mengikut standard yang ditetap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astikan Pengajar mempunyai sijil kemahiran minima tahap 3 untuk keberkesanan penyampaian kemahiran mengikut standard ditetap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A memerlukan peruntukan yang mencukupi bagi menghasilkan projek berkualiti dan berfungsi dengan ba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C A D A N G A N  P E N A M B A H B A I K A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304920" y="1143000"/>
            <a:ext cx="8504280" cy="533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astikan PC, A/C dan peralatan latihan mencukupi dengan nisbah yang sepatutn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astikan kompetensi pengajar 100% dengan penerusan program PP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K Kepakaran PPU akan memastikan perlaksanaan kualiti pelajar mencapai tahap dan standard yang ditetapkan menerusi progra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5"/>
          <p:cNvSpPr/>
          <p:nvPr/>
        </p:nvSpPr>
        <p:spPr>
          <a:xfrm>
            <a:off x="152280" y="297180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haroni"/>
              </a:rPr>
              <a:t>T E R I M A   K A S I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286000" y="3809880"/>
            <a:ext cx="457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ADTEC KEM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gency FB"/>
              </a:rPr>
              <a:t>Telefon: 09-866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gency FB"/>
              </a:rPr>
              <a:t>Faks: 09-867 1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K A N D U N G A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2590920" y="1143000"/>
            <a:ext cx="621828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KTIF / S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JUKAN PIAWA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ILAI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ROSS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Penyediaan Bahan dan Peralatan/Me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ualiti Peng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Kualiti Pel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Projek Tahun Akh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M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DANGAN PENAMBAHBA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encrypted-tbn0.gstatic.com/images?q=tbn:ANd9GcQh49Q13JNOuCf82_UZP8NQZK-0XrPgto7nzNr6aL3KWIXygBY-Aw"/>
          <p:cNvPicPr/>
          <p:nvPr/>
        </p:nvPicPr>
        <p:blipFill>
          <a:blip r:embed="rId2"/>
          <a:stretch/>
        </p:blipFill>
        <p:spPr>
          <a:xfrm>
            <a:off x="563400" y="2438280"/>
            <a:ext cx="1717920" cy="10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D:\RRAFIDAH\BKKL\BUKU LOG\Circle1.png"/>
          <p:cNvPicPr/>
          <p:nvPr/>
        </p:nvPicPr>
        <p:blipFill>
          <a:blip r:embed="rId3"/>
          <a:stretch/>
        </p:blipFill>
        <p:spPr>
          <a:xfrm>
            <a:off x="7086600" y="487692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O B J E K T I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533520" y="1143000"/>
            <a:ext cx="807696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ilai tahap kecukupan bahan guna habis, mesin dan alatan tangan berdasarkan nisbah pelajar dan me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ilai kualiti/tahap pengetahuan dan  kemahiran pengaj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ilai kualiti/tahap kemahiran pela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RRAFIDAH\BKKL\BUKU LOG\Circle1.png"/>
          <p:cNvPicPr/>
          <p:nvPr/>
        </p:nvPicPr>
        <p:blipFill>
          <a:blip r:embed="rId2"/>
          <a:stretch/>
        </p:blipFill>
        <p:spPr>
          <a:xfrm>
            <a:off x="7086600" y="487692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P I A W A I A N   R U J U K A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5"/>
          <p:cNvSpPr/>
          <p:nvPr/>
        </p:nvSpPr>
        <p:spPr>
          <a:xfrm>
            <a:off x="304920" y="1143000"/>
            <a:ext cx="850428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ilaian oleh PPL.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orang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ross che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enarai peralatan &amp; bah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or peratusan pencapaian Kualiti minima adalah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or peratusan pencapaian Kualiti Pengajar adalah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sbah ideal bagi pelajar kepada set peralatan latihan A/C ialah 1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sbah ideal bagi pelajar kepada PC ialah 1: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hap kemahiran minima pengajar ILP adalah T3 dan ADTEC adalah T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iap pengajar wajib menjalani kursus Pedagogy atau V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RRAFIDAH\BKKL\BUKU LOG\Circle1.png"/>
          <p:cNvPicPr/>
          <p:nvPr/>
        </p:nvPicPr>
        <p:blipFill>
          <a:blip r:embed="rId5"/>
          <a:stretch/>
        </p:blipFill>
        <p:spPr>
          <a:xfrm>
            <a:off x="7086600" y="487692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5516_600735623276689_276522008_n.jpg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2"/>
          <p:cNvSpPr/>
          <p:nvPr/>
        </p:nvSpPr>
        <p:spPr>
          <a:xfrm>
            <a:off x="152280" y="3049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39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P E N I L A I A N</a:t>
            </a:r>
            <a:r>
              <a:rPr b="1" i="1" lang="en-US" sz="2800" spc="-1" strike="noStrike">
                <a:solidFill>
                  <a:srgbClr val="9bbb59"/>
                </a:solidFill>
                <a:latin typeface="Aharoni"/>
              </a:rPr>
              <a:t>  C R O S S  C H E C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304920" y="1143000"/>
            <a:ext cx="850428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5724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EDIAAN BAHAN GUNA HABIS, PERALATAN DAN ME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MPETENSI PENG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ALITI P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K TAHUN AKH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RRAFIDAH\BKKL\BUKU LOG\Circle1.png"/>
          <p:cNvPicPr/>
          <p:nvPr/>
        </p:nvPicPr>
        <p:blipFill>
          <a:blip r:embed="rId2"/>
          <a:stretch/>
        </p:blipFill>
        <p:spPr>
          <a:xfrm>
            <a:off x="7086600" y="487692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ounded Rectangle 13"/>
          <p:cNvSpPr/>
          <p:nvPr/>
        </p:nvSpPr>
        <p:spPr>
          <a:xfrm>
            <a:off x="152280" y="763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609480" y="99072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e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0" y="16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PENYEDIAAN BAHAN, PERALATAN DAN ME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990720"/>
          <a:ext cx="8763120" cy="5952960"/>
        </p:xfrm>
        <a:graphic>
          <a:graphicData uri="http://schemas.openxmlformats.org/drawingml/2006/table">
            <a:tbl>
              <a:tblPr/>
              <a:tblGrid>
                <a:gridCol w="469800"/>
                <a:gridCol w="2033640"/>
                <a:gridCol w="704880"/>
                <a:gridCol w="55548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atan (% minima adalah 8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Shah A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Kema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Bintu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Ji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epala B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Ip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 tidak mencukupi. (Modul: CAD Appl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t unit tak cukup. (Modul: Commercial A/C Instal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Lum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Mesin kimpal arka tidak cukup. (Modul: ARC Welding Pract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er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 tidak mencukupi. (Modul: CAD Appl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Terengga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Split unit tak cukup. (Modul: Commercial A/C Instal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ota Bh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 tidak mencukupi. (Modul: CAD Appl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t unit tak cukup. (Modul: Commercial A/C Instal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Labu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PC tidak mencukupi. Berkongsi dengan bengkel lain. (Modul: CAD Appl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Split unit tak cukup. (Modul: Commercial A/C Instal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Sanda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ounded Rectangle 13"/>
          <p:cNvSpPr/>
          <p:nvPr/>
        </p:nvSpPr>
        <p:spPr>
          <a:xfrm>
            <a:off x="152280" y="763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09480" y="99072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e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16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KOMPETENSI PENG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066680"/>
          <a:ext cx="8381880" cy="527688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914400"/>
                <a:gridCol w="5029200"/>
              </a:tblGrid>
              <a:tr h="38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atan (% standard adalah 10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Shah A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engajar tiada SKM T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Kema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engajar tiada SKM T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Bintu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engajar tiada SKM T4, 2 orang tiada Pedagogy/V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Ji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epala B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Ip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Lum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er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Terengga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ota Bh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Labu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Sanda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Pengajar tiada SKM 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ngajar tiada SKM T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13"/>
          <p:cNvSpPr/>
          <p:nvPr/>
        </p:nvSpPr>
        <p:spPr>
          <a:xfrm>
            <a:off x="152280" y="763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09480" y="99072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e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0" y="162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KUALITI PEL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066680"/>
          <a:ext cx="8381880" cy="515952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914400"/>
                <a:gridCol w="50292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atan (% minima adalah 8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Shah A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Kema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Bintu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Ji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epala B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Ip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Lum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er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uala Terengga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ota Bh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Labu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Sanda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M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ounded Rectangle 13"/>
          <p:cNvSpPr/>
          <p:nvPr/>
        </p:nvSpPr>
        <p:spPr>
          <a:xfrm>
            <a:off x="152280" y="76320"/>
            <a:ext cx="8839440" cy="685800"/>
          </a:xfrm>
          <a:prstGeom prst="roundRect">
            <a:avLst>
              <a:gd name="adj" fmla="val 48472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609480" y="99072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e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0" y="162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Aharoni"/>
              </a:rPr>
              <a:t>P R O J E K  T A H U N  A K H I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066680"/>
          <a:ext cx="8381880" cy="190044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914400"/>
                <a:gridCol w="5029200"/>
              </a:tblGrid>
              <a:tr h="38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it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atan (% minima adalah 8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Shah A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H PTA tidak mencukupi untuk menjalankan proj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Kema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EC Bintu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P Kepala B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ahriman Muhamad Kasim</dc:creator>
  <dc:description/>
  <dc:language>en-US</dc:language>
  <cp:lastModifiedBy>abd_halim</cp:lastModifiedBy>
  <cp:lastPrinted>2016-08-23T00:50:22Z</cp:lastPrinted>
  <dcterms:modified xsi:type="dcterms:W3CDTF">2016-08-30T09:32:45Z</dcterms:modified>
  <cp:revision>128</cp:revision>
  <dc:subject/>
  <dc:title>PowerPoint Presentation</dc:title>
</cp:coreProperties>
</file>