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05A-5E14-48AE-A6A9-65F27AA1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BDB-F0E1-49F4-9A86-993F1E9A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6D03-16DA-46B4-A572-673EB18B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6BF-637E-4919-956B-E97856AE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B385-037D-4E54-8E13-53599C02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AB35-79F9-400A-ABAF-411DD080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F5F4-84B2-4A85-9B8F-A4FAD421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146F-A11B-43AA-B6AF-E3D563EE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13E9-6ABF-47D6-87E5-04251795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75AB-13D1-4349-8F18-C81BB24B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1A1A-8D55-4A59-9B79-960A0BAC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A06-4133-48DF-9BAF-65F2781F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274F-38A1-4390-936F-41AE6609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588E-7E89-4F48-A7A8-171C7900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A127-B542-4092-ADB4-B502990D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9289-C611-4F0B-B91D-534D5240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2588-0F3C-4335-93EB-51F3B61E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19E71-D6B9-4A1E-A38F-93F979D3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E0012-5676-40FF-9F78-D313C11A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291E0-51B8-4BC4-9128-68EE8184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B0244-4471-4077-921F-567771FA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FA303-A3B4-4938-989E-711EA7C6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498C-03B0-423C-896E-574E7195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3F2CC-1FEF-4A7F-A9F7-92364A24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7FD38-B38F-466A-9CC2-E21D98B3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85DF3-3986-4988-B31B-BB7E56D5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B827-F7C8-4B4D-AA89-29A6DC1F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DD5FF-D2B5-4285-8411-7922F39B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B67FF-B2FE-495D-9FC3-FF6847DE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2BC94-D0D9-4F40-B901-34901096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6FF47-3BD9-46CC-ACDD-2F10C21B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62474-3410-4804-9CD5-AB7C538B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8F2D5-4AC0-47A6-BE08-E9884BFC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867-CDCB-4F88-BE44-80F55BA0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5F32F-6BC2-44CE-8D5D-8D193FBF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2E4DD-EF51-46AE-BAC3-7E502F77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4BA41-FF6A-4653-A28F-A42C4B4C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80707-DC1C-4BE6-8311-E7A9D294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B6BD3-4C14-408D-9ED3-569F74D2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56FCE-11E0-4407-B060-A35CE48A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6D74C-8047-4884-A2F0-4A294E64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E1290-E18A-4798-9989-D3876821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8E246-139E-41C1-84EB-3697FE7A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3BC31-8EB9-4176-A43F-2DA38908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6C28-DDFB-4973-A393-666E4CC8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4D1F2-CD36-4CB6-801E-36C2ECBE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F65C3-0B79-44E3-8088-3A204848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1EA85-3E8F-4E2F-8F23-B9066141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603A3-3679-4330-9BBD-2F338906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A74BF-E630-4660-82A0-846C5D52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A0A4A-51AE-49C4-B379-AED3D689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AD9F1-BB97-47FE-9CA0-6A6C0B56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04C5D-FB16-463D-BF31-590A6489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183C3-659B-4547-A7C2-4BC8FD9F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BB8FD-9232-400E-9925-97B316AF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53CB-331B-4B93-8097-53D77960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67A1B-DDFE-4D4D-A87D-532E3C7C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7AA86-06C0-4DBA-BFAA-19CCCF32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C115B-2467-4308-A851-0E9044A9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3CC19-CA3F-41AF-9B88-5D99E8CE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805EA-B8BA-4AAF-A155-6BDE2D92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0785F-92DD-4B13-A482-4CD6D30E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B7CA7-5974-495F-A3E0-1C603881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68A88-8354-4298-988D-46FE43BD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D5BF2-A58E-433B-A7DF-252F0A45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AC053-1130-4B84-9F89-21105D0B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9261-2016-41F2-AC42-B7436C80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BE447-C913-4686-BD6B-DEA038B3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0CCC3-0E61-41C8-A6DE-D9A0B42F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C69CD-F6C4-4AA6-AEAA-8AD3E941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63080-A2BE-49AF-A210-2EA46502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87BFB-0951-4DEC-B119-01542EB1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3F146-E9F7-4642-B879-8123E11D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B72B3-17BC-485F-BD44-25A91FA9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73521-EC97-4956-A1A6-4749BBCA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A340D-B58B-4B4F-9029-40941059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606D7-9ABE-46C5-A9CA-49A3CD51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9CD6-E9BF-469B-8D71-85F15ADB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7B71C-B17E-4BC8-98E4-32799B92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A5364-4170-45A4-ADC8-F6B4380A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D5B6A-0258-4A44-83C7-1B3A6A27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692CC-AB26-4265-A89E-8192DBEF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1FC7F-B8A3-4923-B9A9-CAC10F62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33C-94E3-45BE-96E4-05CA729F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62C0-5F55-4CFE-A444-BD50CDD56DFD}" type="slidenum">
              <a:rPr b="0" lang="en-MY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E297-B0A7-4006-A82F-084ED2EB1EB5}" type="slidenum">
              <a:rPr b="0" lang="en-MY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B7F9-2CE3-4189-883A-F77CEABB8741}" type="slidenum">
              <a:rPr b="0" lang="en-MY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93EF-CA84-46A7-9CD8-81DF07683253}" type="slidenum">
              <a:rPr b="0" lang="en-MY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D0CC-C7EB-4CDF-8F9A-02E07CED15BA}" type="slidenum">
              <a:rPr b="0" lang="en-MY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1746-4905-49AB-9424-2548A3497AB9}" type="slidenum">
              <a:rPr b="0" lang="en-MY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EEF8-A051-43F2-A11B-4F5C965E46A9}" type="slidenum">
              <a:rPr b="0" lang="en-MY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3"/>
          <p:cNvSpPr/>
          <p:nvPr/>
        </p:nvSpPr>
        <p:spPr>
          <a:xfrm>
            <a:off x="1361880" y="1147680"/>
            <a:ext cx="642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Berlin Sans FB Demi"/>
                <a:ea typeface="Arial"/>
              </a:rPr>
              <a:t>STATISTIK FAKTO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Berlin Sans FB Demi"/>
                <a:ea typeface="Arial"/>
              </a:rPr>
              <a:t>PELAJAR GAGAL, BERHENTI DAN TANGGUH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Berlin Sans FB Demi"/>
                <a:ea typeface="Arial"/>
              </a:rPr>
              <a:t>BAGI SESI KELUARAN 1/201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9" name="Picture 4" descr="C:\Users\noralize\Desktop\sistema-para-taller-meca-570x350.jpg"/>
          <p:cNvPicPr/>
          <p:nvPr/>
        </p:nvPicPr>
        <p:blipFill>
          <a:blip r:embed="rId1"/>
          <a:stretch/>
        </p:blipFill>
        <p:spPr>
          <a:xfrm>
            <a:off x="2421000" y="2781360"/>
            <a:ext cx="54291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5"/>
          <p:cNvSpPr/>
          <p:nvPr/>
        </p:nvSpPr>
        <p:spPr>
          <a:xfrm>
            <a:off x="179280" y="2937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Berlin Sans FB Demi"/>
                <a:ea typeface="Arial"/>
              </a:rPr>
              <a:t>PERBEZAAAN STATISTIK PELAJAR GAGAL, TANGGUH DAN BERHENTI BAGI SESI KELUARAN  1/2015 DAN 1/201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0" name="Chart 10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4916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3"/>
          <p:cNvSpPr/>
          <p:nvPr/>
        </p:nvSpPr>
        <p:spPr>
          <a:xfrm>
            <a:off x="3355200" y="2924280"/>
            <a:ext cx="257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5400" spc="-1" strike="noStrike">
                <a:solidFill>
                  <a:srgbClr val="c00000"/>
                </a:solidFill>
                <a:latin typeface="Berlin Sans FB Demi"/>
                <a:ea typeface="Arial"/>
              </a:rPr>
              <a:t>TAMAT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1116000" y="907920"/>
          <a:ext cx="7559640" cy="5693040"/>
        </p:xfrm>
        <a:graphic>
          <a:graphicData uri="http://schemas.openxmlformats.org/drawingml/2006/table">
            <a:tbl>
              <a:tblPr/>
              <a:tblGrid>
                <a:gridCol w="582480"/>
                <a:gridCol w="2092320"/>
                <a:gridCol w="930600"/>
                <a:gridCol w="1395360"/>
                <a:gridCol w="1279440"/>
                <a:gridCol w="1279440"/>
              </a:tblGrid>
              <a:tr h="319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400" spc="-1" strike="noStrike">
                          <a:solidFill>
                            <a:srgbClr val="000000"/>
                          </a:solidFill>
                          <a:latin typeface="Adobe Gothic Std B"/>
                          <a:ea typeface="Adobe Gothic Std B"/>
                        </a:rPr>
                        <a:t>B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400" spc="-1" strike="noStrike">
                          <a:solidFill>
                            <a:srgbClr val="000000"/>
                          </a:solidFill>
                          <a:latin typeface="Adobe Gothic Std B"/>
                          <a:ea typeface="Adobe Gothic Std B"/>
                        </a:rPr>
                        <a:t>ILJ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400" spc="-1" strike="noStrike">
                          <a:solidFill>
                            <a:srgbClr val="000000"/>
                          </a:solidFill>
                          <a:latin typeface="Adobe Gothic Std B"/>
                          <a:ea typeface="Adobe Gothic Std B"/>
                        </a:rPr>
                        <a:t>GA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400" spc="-1" strike="noStrike">
                          <a:solidFill>
                            <a:srgbClr val="000000"/>
                          </a:solidFill>
                          <a:latin typeface="Adobe Gothic Std B"/>
                          <a:ea typeface="Adobe Gothic Std B"/>
                        </a:rPr>
                        <a:t>BERH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400" spc="-1" strike="noStrike">
                          <a:solidFill>
                            <a:srgbClr val="000000"/>
                          </a:solidFill>
                          <a:latin typeface="Adobe Gothic Std B"/>
                          <a:ea typeface="Adobe Gothic Std B"/>
                        </a:rPr>
                        <a:t>TANGGU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400" spc="-1" strike="noStrike">
                          <a:solidFill>
                            <a:srgbClr val="000000"/>
                          </a:solidFill>
                          <a:latin typeface="Adobe Gothic Std B"/>
                          <a:ea typeface="Adobe Gothic Std B"/>
                        </a:rPr>
                        <a:t>DB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a9d7e2"/>
                    </a:solidFill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M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DTEC BATU PAH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DTEC SHAH AL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DTEC KUL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DTEC MELA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DTEC KEMA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DTEC TAIP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DTEC BINTU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AP NIBONG TE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BUKIT KA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JI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KANG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KEPALA BA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KOTA BHA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KOTA SAMARAH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KUALA LANG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6520" y="360000"/>
            <a:ext cx="75214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72314"/>
                </a:solidFill>
                <a:latin typeface="Berlin Sans FB Demi"/>
              </a:rPr>
              <a:t>STATISTIK PELAJAR GAGAL, TANGGUH DAN BERHENTI BAGI SESI KELUARAN 1/2016 MENGIKUT INSTITUT</a:t>
            </a: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1042920" y="907920"/>
          <a:ext cx="7632720" cy="5861160"/>
        </p:xfrm>
        <a:graphic>
          <a:graphicData uri="http://schemas.openxmlformats.org/drawingml/2006/table">
            <a:tbl>
              <a:tblPr/>
              <a:tblGrid>
                <a:gridCol w="486000"/>
                <a:gridCol w="2151000"/>
                <a:gridCol w="1179360"/>
                <a:gridCol w="1317600"/>
                <a:gridCol w="1249560"/>
                <a:gridCol w="1249200"/>
              </a:tblGrid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J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A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ERH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ANGGU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B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a9d7e2"/>
                    </a:solidFill>
                  </a:tcPr>
                </a:tc>
              </a:tr>
              <a:tr h="31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KUALA LUMP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.TERENGGA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KUAN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LABU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LEDA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MER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PASIR GUDA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PE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PER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MI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SANDAK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SELAND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KOTA KINABA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DTEC JERANT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IPO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P MARA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noFill/>
                  </a:tcPr>
                </a:tc>
              </a:tr>
              <a:tr h="33012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400" spc="-1" strike="noStrike">
                          <a:solidFill>
                            <a:srgbClr val="000000"/>
                          </a:solidFill>
                          <a:latin typeface="Adobe Gothic Std B"/>
                          <a:ea typeface="Adobe Gothic Std B"/>
                        </a:rPr>
                        <a:t>JUMLA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f8863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400" spc="-1" strike="noStrike">
                          <a:solidFill>
                            <a:srgbClr val="000000"/>
                          </a:solidFill>
                          <a:latin typeface="Adobe Gothic Std B"/>
                          <a:ea typeface="Adobe Gothic Std B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f8863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400" spc="-1" strike="noStrike">
                          <a:solidFill>
                            <a:srgbClr val="000000"/>
                          </a:solidFill>
                          <a:latin typeface="Adobe Gothic Std B"/>
                          <a:ea typeface="Adobe Gothic Std B"/>
                        </a:rPr>
                        <a:t>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f8863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400" spc="-1" strike="noStrike">
                          <a:solidFill>
                            <a:srgbClr val="000000"/>
                          </a:solidFill>
                          <a:latin typeface="Adobe Gothic Std B"/>
                          <a:ea typeface="Adobe Gothic Std B"/>
                        </a:rPr>
                        <a:t>2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f8863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400" spc="-1" strike="noStrike">
                          <a:solidFill>
                            <a:srgbClr val="000000"/>
                          </a:solidFill>
                          <a:latin typeface="Adobe Gothic Std B"/>
                          <a:ea typeface="Adobe Gothic Std B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f88631"/>
                    </a:solidFill>
                  </a:tcPr>
                </a:tc>
              </a:tr>
            </a:tbl>
          </a:graphicData>
        </a:graphic>
      </p:graphicFrame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66520" y="333000"/>
            <a:ext cx="75214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72314"/>
                </a:solidFill>
                <a:latin typeface="Berlin Sans FB Demi"/>
              </a:rPr>
              <a:t>STATISTIK PELAJAR GAGAL, TANGGUH DAN BERHENTI BAGI SESI KELUARAN 1/2016 MENGIKUT INSTITUT</a:t>
            </a: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6227640" y="5229360"/>
          <a:ext cx="2737080" cy="1341360"/>
        </p:xfrm>
        <a:graphic>
          <a:graphicData uri="http://schemas.openxmlformats.org/drawingml/2006/table">
            <a:tbl>
              <a:tblPr/>
              <a:tblGrid>
                <a:gridCol w="2014560"/>
                <a:gridCol w="72252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A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335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ERH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ANGGU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B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</a:tr>
            </a:tbl>
          </a:graphicData>
        </a:graphic>
      </p:graphicFrame>
      <p:pic>
        <p:nvPicPr>
          <p:cNvPr id="325" name="Chart 1" descr=""/>
          <p:cNvPicPr/>
          <p:nvPr/>
        </p:nvPicPr>
        <p:blipFill>
          <a:blip r:embed="rId1"/>
          <a:stretch/>
        </p:blipFill>
        <p:spPr>
          <a:xfrm>
            <a:off x="633240" y="785880"/>
            <a:ext cx="78058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Chart 4" descr=""/>
          <p:cNvPicPr/>
          <p:nvPr/>
        </p:nvPicPr>
        <p:blipFill>
          <a:blip r:embed="rId1"/>
          <a:stretch/>
        </p:blipFill>
        <p:spPr>
          <a:xfrm>
            <a:off x="0" y="622440"/>
            <a:ext cx="9144000" cy="6527520"/>
          </a:xfrm>
          <a:prstGeom prst="rect">
            <a:avLst/>
          </a:prstGeom>
          <a:ln w="0">
            <a:noFill/>
          </a:ln>
        </p:spPr>
      </p:pic>
      <p:sp>
        <p:nvSpPr>
          <p:cNvPr id="327" name="TextBox 4"/>
          <p:cNvSpPr/>
          <p:nvPr/>
        </p:nvSpPr>
        <p:spPr>
          <a:xfrm>
            <a:off x="900000" y="18900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 Demi"/>
                <a:ea typeface="Arial"/>
              </a:rPr>
              <a:t>STATISTIK PELAJAR GAGAL, TANGGUH, BERHENTI DAN DIBERHENTIKAN BAGI SESI KELUARAN 1/2016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 Demi"/>
                <a:ea typeface="Arial"/>
              </a:rPr>
              <a:t>MENGIKUT INSTITU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Chart 3" descr=""/>
          <p:cNvPicPr/>
          <p:nvPr/>
        </p:nvPicPr>
        <p:blipFill>
          <a:blip r:embed="rId1"/>
          <a:stretch/>
        </p:blipFill>
        <p:spPr>
          <a:xfrm>
            <a:off x="0" y="42840"/>
            <a:ext cx="9253440" cy="71136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4"/>
          <p:cNvSpPr/>
          <p:nvPr/>
        </p:nvSpPr>
        <p:spPr>
          <a:xfrm>
            <a:off x="1332000" y="47628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 Demi"/>
                <a:ea typeface="Arial"/>
              </a:rPr>
              <a:t>STATISTIK PELAJAR GAGAL, TANGGUH DAN BERHENTI BAGI SESI KELUARAN 1/2016 MENGIKUT INSTITU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able 3" descr=""/>
          <p:cNvPicPr/>
          <p:nvPr/>
        </p:nvPicPr>
        <p:blipFill>
          <a:blip r:embed="rId1"/>
          <a:stretch/>
        </p:blipFill>
        <p:spPr>
          <a:xfrm>
            <a:off x="5730840" y="5278320"/>
            <a:ext cx="3181320" cy="1384560"/>
          </a:xfrm>
          <a:prstGeom prst="rect">
            <a:avLst/>
          </a:prstGeom>
          <a:ln w="0">
            <a:noFill/>
          </a:ln>
        </p:spPr>
      </p:pic>
      <p:pic>
        <p:nvPicPr>
          <p:cNvPr id="331" name="Chart 6" descr=""/>
          <p:cNvPicPr/>
          <p:nvPr/>
        </p:nvPicPr>
        <p:blipFill>
          <a:blip r:embed="rId2"/>
          <a:stretch/>
        </p:blipFill>
        <p:spPr>
          <a:xfrm>
            <a:off x="-50760" y="1346040"/>
            <a:ext cx="9245520" cy="4165920"/>
          </a:xfrm>
          <a:prstGeom prst="rect">
            <a:avLst/>
          </a:prstGeom>
          <a:ln w="0">
            <a:noFill/>
          </a:ln>
        </p:spPr>
      </p:pic>
      <p:sp>
        <p:nvSpPr>
          <p:cNvPr id="332" name="TextBox 5"/>
          <p:cNvSpPr/>
          <p:nvPr/>
        </p:nvSpPr>
        <p:spPr>
          <a:xfrm>
            <a:off x="3132000" y="40464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c00000"/>
                </a:solidFill>
                <a:latin typeface="Berlin Sans FB Demi"/>
                <a:ea typeface="Arial"/>
              </a:rPr>
              <a:t>PELAJAR GAG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5796000" y="5051520"/>
          <a:ext cx="3097080" cy="1473120"/>
        </p:xfrm>
        <a:graphic>
          <a:graphicData uri="http://schemas.openxmlformats.org/drawingml/2006/table">
            <a:tbl>
              <a:tblPr/>
              <a:tblGrid>
                <a:gridCol w="2376360"/>
                <a:gridCol w="72072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AWARAN BELAJ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AWARAN KER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DAK MIN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IN-L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</a:tr>
            </a:tbl>
          </a:graphicData>
        </a:graphic>
      </p:graphicFrame>
      <p:pic>
        <p:nvPicPr>
          <p:cNvPr id="334" name="Chart 4" descr=""/>
          <p:cNvPicPr/>
          <p:nvPr/>
        </p:nvPicPr>
        <p:blipFill>
          <a:blip r:embed="rId1"/>
          <a:stretch/>
        </p:blipFill>
        <p:spPr>
          <a:xfrm>
            <a:off x="128520" y="1346040"/>
            <a:ext cx="8958240" cy="4165920"/>
          </a:xfrm>
          <a:prstGeom prst="rect">
            <a:avLst/>
          </a:prstGeom>
          <a:ln w="0">
            <a:noFill/>
          </a:ln>
        </p:spPr>
      </p:pic>
      <p:sp>
        <p:nvSpPr>
          <p:cNvPr id="335" name="TextBox 5"/>
          <p:cNvSpPr/>
          <p:nvPr/>
        </p:nvSpPr>
        <p:spPr>
          <a:xfrm>
            <a:off x="2843280" y="20628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c00000"/>
                </a:solidFill>
                <a:latin typeface="Berlin Sans FB Demi"/>
                <a:ea typeface="Arial"/>
              </a:rPr>
              <a:t>PELAJAR BERHENT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able 3" descr=""/>
          <p:cNvPicPr/>
          <p:nvPr/>
        </p:nvPicPr>
        <p:blipFill>
          <a:blip r:embed="rId1"/>
          <a:stretch/>
        </p:blipFill>
        <p:spPr>
          <a:xfrm>
            <a:off x="5583240" y="5089680"/>
            <a:ext cx="3365640" cy="1645920"/>
          </a:xfrm>
          <a:prstGeom prst="rect">
            <a:avLst/>
          </a:prstGeom>
          <a:ln w="0">
            <a:noFill/>
          </a:ln>
        </p:spPr>
      </p:pic>
      <p:sp>
        <p:nvSpPr>
          <p:cNvPr id="337" name="TextBox 5"/>
          <p:cNvSpPr/>
          <p:nvPr/>
        </p:nvSpPr>
        <p:spPr>
          <a:xfrm>
            <a:off x="2843280" y="20628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c00000"/>
                </a:solidFill>
                <a:latin typeface="Berlin Sans FB Demi"/>
                <a:ea typeface="Arial"/>
              </a:rPr>
              <a:t>PELAJAR TANGGU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" name="Chart 9" descr=""/>
          <p:cNvPicPr/>
          <p:nvPr/>
        </p:nvPicPr>
        <p:blipFill>
          <a:blip r:embed="rId2"/>
          <a:stretch/>
        </p:blipFill>
        <p:spPr>
          <a:xfrm>
            <a:off x="-34920" y="1146240"/>
            <a:ext cx="924552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9T07:32:10Z</dcterms:created>
  <dc:creator>noralize</dc:creator>
  <dc:description/>
  <dc:language>en-US</dc:language>
  <cp:lastModifiedBy>izwan</cp:lastModifiedBy>
  <cp:lastPrinted>2016-08-30T06:46:48Z</cp:lastPrinted>
  <dcterms:modified xsi:type="dcterms:W3CDTF">2016-08-31T10:09:29Z</dcterms:modified>
  <cp:revision>43</cp:revision>
  <dc:subject/>
  <dc:title>PowerPoint Presentation</dc:title>
</cp:coreProperties>
</file>